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6F8FB-BCE9-4A5C-B6A4-5013E6963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C7437-41A8-4385-AEB2-7F0FDF4A6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E1DD1-A11B-4799-8FC1-0D8AB9F69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03FDA-5E62-49C1-BB9F-4E94675CD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2A949-7068-4184-A625-6F6C652E5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2395D-BF3A-49CC-8E12-123DB22D0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DF867-588D-47E0-BE5A-1DF75C3CD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6AA22-4BEA-4956-BCC7-AC9A2DDAA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A5865-1E14-4D59-94AD-CCAF8937C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0DE4B-DBC3-4135-955E-B78B06199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6A3AE-3A6B-4175-9553-59AA4D712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79EA6-D56F-4321-A5FA-5B7D9A77B8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87A66-2572-47F3-8FCB-EB9BBC3C06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80520"/>
            <a:ext cx="8686800" cy="617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v. 16, 2011  Warm-up:</a:t>
            </a:r>
            <a:br>
              <a:rPr sz="2800"/>
            </a:br>
            <a:br>
              <a:rPr sz="2800"/>
            </a:b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Your family checkbook balance is $528.32.  You spent $89.57 at Target on snow shovels and winterizing supplies to be ready for the winter.  </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hat is your new balance?   ______</a:t>
            </a:r>
            <a:br>
              <a:rPr sz="2400"/>
            </a:br>
            <a:r>
              <a:rPr b="0" lang="en-US" sz="2400" spc="-1" strike="noStrike">
                <a:solidFill>
                  <a:srgbClr val="000000"/>
                </a:solidFill>
                <a:latin typeface="Times New Roman"/>
              </a:rPr>
              <a:t>Write an expression showing your solution using the variable </a:t>
            </a:r>
            <a:r>
              <a:rPr b="0" i="1" lang="en-US" sz="2400" spc="-1" strike="noStrike">
                <a:solidFill>
                  <a:srgbClr val="000000"/>
                </a:solidFill>
                <a:latin typeface="Times New Roman"/>
              </a:rPr>
              <a:t>t</a:t>
            </a:r>
            <a:r>
              <a:rPr b="0" lang="en-US" sz="2400" spc="-1" strike="noStrike">
                <a:solidFill>
                  <a:srgbClr val="000000"/>
                </a:solidFill>
                <a:latin typeface="Times New Roman"/>
              </a:rPr>
              <a:t> to represent the Target purchase.               ________________    </a:t>
            </a:r>
            <a:br>
              <a:rPr sz="2400"/>
            </a:br>
            <a:br>
              <a:rPr sz="2800"/>
            </a:b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Grandma Ginny isn’t going to be able to make it home for Thanksgiving, but since she always makes the pies for the holidays, she sent you a check for $40 and a note asking you to pick up some pies at Baugher’s since they are almost as good as hers.  </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hat will be your new balance?  ________</a:t>
            </a:r>
            <a:br>
              <a:rPr sz="2400"/>
            </a:br>
            <a:r>
              <a:rPr b="0" lang="en-US" sz="2400" spc="-1" strike="noStrike">
                <a:solidFill>
                  <a:srgbClr val="000000"/>
                </a:solidFill>
                <a:latin typeface="Times New Roman"/>
              </a:rPr>
              <a:t>Write an expression showing your solution using the variable </a:t>
            </a:r>
            <a:r>
              <a:rPr b="0" i="1" lang="en-US" sz="2400" spc="-1" strike="noStrike">
                <a:solidFill>
                  <a:srgbClr val="000000"/>
                </a:solidFill>
                <a:latin typeface="Times New Roman"/>
              </a:rPr>
              <a:t>g</a:t>
            </a:r>
            <a:r>
              <a:rPr b="0" lang="en-US" sz="2400" spc="-1" strike="noStrike">
                <a:solidFill>
                  <a:srgbClr val="000000"/>
                </a:solidFill>
                <a:latin typeface="Times New Roman"/>
              </a:rPr>
              <a:t> to show the money Grandma Ginny sent.            ________________</a:t>
            </a:r>
            <a:endParaRPr b="0" lang="en-US" sz="2400" spc="-1" strike="noStrike">
              <a:solidFill>
                <a:srgbClr val="000000"/>
              </a:solidFill>
              <a:latin typeface="Times New Roman"/>
            </a:endParaRPr>
          </a:p>
        </p:txBody>
      </p:sp>
      <p:sp>
        <p:nvSpPr>
          <p:cNvPr id="42" name=""/>
          <p:cNvSpPr/>
          <p:nvPr/>
        </p:nvSpPr>
        <p:spPr>
          <a:xfrm>
            <a:off x="7081920" y="2035080"/>
            <a:ext cx="1554120" cy="706680"/>
          </a:xfrm>
          <a:custGeom>
            <a:avLst/>
            <a:gdLst/>
            <a:ahLst/>
            <a:rect l="l" t="t" r="r" b="b"/>
            <a:pathLst>
              <a:path w="4317" h="1961">
                <a:moveTo>
                  <a:pt x="19670" y="7565"/>
                </a:moveTo>
                <a:cubicBezTo>
                  <a:pt x="19670" y="7610"/>
                  <a:pt x="19667" y="7630"/>
                  <a:pt x="19695" y="7590"/>
                </a:cubicBezTo>
              </a:path>
              <a:path w="4317" h="1961">
                <a:moveTo>
                  <a:pt x="19695" y="7590"/>
                </a:moveTo>
                <a:lnTo>
                  <a:pt x="19695" y="7590"/>
                </a:lnTo>
              </a:path>
              <a:path w="4317" h="1961">
                <a:moveTo>
                  <a:pt x="23986" y="5879"/>
                </a:moveTo>
                <a:lnTo>
                  <a:pt x="23986" y="5879"/>
                </a:lnTo>
                <a:lnTo>
                  <a:pt x="23986" y="5879"/>
                </a:lnTo>
              </a:path>
              <a:path w="4317" h="1961">
                <a:moveTo>
                  <a:pt x="22299" y="5655"/>
                </a:moveTo>
                <a:cubicBezTo>
                  <a:pt x="22263" y="5784"/>
                  <a:pt x="22177" y="5917"/>
                  <a:pt x="22151" y="6052"/>
                </a:cubicBezTo>
                <a:cubicBezTo>
                  <a:pt x="22135" y="6137"/>
                  <a:pt x="22141" y="6140"/>
                  <a:pt x="22126" y="6201"/>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6419880" y="2473200"/>
            <a:ext cx="1117440" cy="250920"/>
          </a:xfrm>
          <a:custGeom>
            <a:avLst/>
            <a:gdLst/>
            <a:ahLst/>
            <a:rect l="l" t="t" r="r" b="b"/>
            <a:pathLst>
              <a:path w="3101" h="695">
                <a:moveTo>
                  <a:pt x="18083" y="6896"/>
                </a:moveTo>
                <a:cubicBezTo>
                  <a:pt x="17965" y="6896"/>
                  <a:pt x="17946" y="6909"/>
                  <a:pt x="17859" y="6995"/>
                </a:cubicBezTo>
                <a:cubicBezTo>
                  <a:pt x="17912" y="7033"/>
                  <a:pt x="18085" y="7081"/>
                  <a:pt x="18058" y="7169"/>
                </a:cubicBezTo>
                <a:cubicBezTo>
                  <a:pt x="18014" y="7312"/>
                  <a:pt x="17925" y="7248"/>
                  <a:pt x="17835" y="7218"/>
                </a:cubicBezTo>
              </a:path>
              <a:path w="3101" h="695">
                <a:moveTo>
                  <a:pt x="17934" y="6871"/>
                </a:moveTo>
                <a:cubicBezTo>
                  <a:pt x="17977" y="7044"/>
                  <a:pt x="18001" y="7214"/>
                  <a:pt x="18008" y="7392"/>
                </a:cubicBezTo>
                <a:cubicBezTo>
                  <a:pt x="18008" y="7400"/>
                  <a:pt x="18008" y="7409"/>
                  <a:pt x="18008" y="7417"/>
                </a:cubicBezTo>
              </a:path>
              <a:path w="3101" h="695">
                <a:moveTo>
                  <a:pt x="18231" y="7045"/>
                </a:moveTo>
                <a:cubicBezTo>
                  <a:pt x="18223" y="7111"/>
                  <a:pt x="18213" y="7177"/>
                  <a:pt x="18207" y="7243"/>
                </a:cubicBezTo>
                <a:cubicBezTo>
                  <a:pt x="18310" y="7288"/>
                  <a:pt x="18395" y="7252"/>
                  <a:pt x="18504" y="7218"/>
                </a:cubicBezTo>
              </a:path>
              <a:path w="3101" h="695">
                <a:moveTo>
                  <a:pt x="18504" y="6995"/>
                </a:moveTo>
                <a:cubicBezTo>
                  <a:pt x="18491" y="7101"/>
                  <a:pt x="18425" y="7400"/>
                  <a:pt x="18504" y="7491"/>
                </a:cubicBezTo>
                <a:cubicBezTo>
                  <a:pt x="18512" y="7483"/>
                  <a:pt x="18521" y="7474"/>
                  <a:pt x="18529" y="7466"/>
                </a:cubicBezTo>
              </a:path>
              <a:path w="3101" h="695">
                <a:moveTo>
                  <a:pt x="18728" y="6995"/>
                </a:moveTo>
                <a:cubicBezTo>
                  <a:pt x="18781" y="6995"/>
                  <a:pt x="18903" y="6962"/>
                  <a:pt x="18926" y="7020"/>
                </a:cubicBezTo>
                <a:cubicBezTo>
                  <a:pt x="18965" y="7120"/>
                  <a:pt x="18860" y="7170"/>
                  <a:pt x="18802" y="7218"/>
                </a:cubicBezTo>
                <a:cubicBezTo>
                  <a:pt x="18905" y="7203"/>
                  <a:pt x="19027" y="7217"/>
                  <a:pt x="18976" y="7392"/>
                </a:cubicBezTo>
                <a:cubicBezTo>
                  <a:pt x="18914" y="7604"/>
                  <a:pt x="18729" y="7533"/>
                  <a:pt x="18628" y="7441"/>
                </a:cubicBezTo>
              </a:path>
              <a:path w="3101" h="695">
                <a:moveTo>
                  <a:pt x="19323" y="7045"/>
                </a:moveTo>
                <a:cubicBezTo>
                  <a:pt x="19216" y="7075"/>
                  <a:pt x="19207" y="7063"/>
                  <a:pt x="19149" y="7144"/>
                </a:cubicBezTo>
                <a:cubicBezTo>
                  <a:pt x="19201" y="7254"/>
                  <a:pt x="19395" y="7359"/>
                  <a:pt x="19422" y="7466"/>
                </a:cubicBezTo>
                <a:cubicBezTo>
                  <a:pt x="19453" y="7589"/>
                  <a:pt x="19243" y="7564"/>
                  <a:pt x="19199" y="7491"/>
                </a:cubicBezTo>
                <a:cubicBezTo>
                  <a:pt x="19239" y="7415"/>
                  <a:pt x="19392" y="7230"/>
                  <a:pt x="19372" y="7144"/>
                </a:cubicBezTo>
                <a:cubicBezTo>
                  <a:pt x="19320" y="7090"/>
                  <a:pt x="19325" y="7120"/>
                  <a:pt x="19397" y="7268"/>
                </a:cubicBezTo>
              </a:path>
              <a:path w="3101" h="695">
                <a:moveTo>
                  <a:pt x="19893" y="7144"/>
                </a:moveTo>
                <a:cubicBezTo>
                  <a:pt x="19986" y="7137"/>
                  <a:pt x="20072" y="7119"/>
                  <a:pt x="20166" y="7119"/>
                </a:cubicBezTo>
                <a:cubicBezTo>
                  <a:pt x="20178" y="7253"/>
                  <a:pt x="20191" y="7380"/>
                  <a:pt x="20191" y="7516"/>
                </a:cubicBezTo>
                <a:cubicBezTo>
                  <a:pt x="20191" y="7524"/>
                  <a:pt x="20191" y="7533"/>
                  <a:pt x="20191" y="7541"/>
                </a:cubicBezTo>
              </a:path>
              <a:path w="3101" h="695">
                <a:moveTo>
                  <a:pt x="20886" y="6995"/>
                </a:moveTo>
                <a:cubicBezTo>
                  <a:pt x="20835" y="7012"/>
                  <a:pt x="20719" y="7023"/>
                  <a:pt x="20687" y="7069"/>
                </a:cubicBezTo>
                <a:cubicBezTo>
                  <a:pt x="20658" y="7110"/>
                  <a:pt x="20645" y="7154"/>
                  <a:pt x="20613" y="7193"/>
                </a:cubicBezTo>
                <a:cubicBezTo>
                  <a:pt x="20712" y="7193"/>
                  <a:pt x="20801" y="7174"/>
                  <a:pt x="20886" y="7243"/>
                </a:cubicBezTo>
                <a:cubicBezTo>
                  <a:pt x="21032" y="7361"/>
                  <a:pt x="20827" y="7482"/>
                  <a:pt x="20737" y="7516"/>
                </a:cubicBezTo>
                <a:cubicBezTo>
                  <a:pt x="20648" y="7538"/>
                  <a:pt x="20623" y="7554"/>
                  <a:pt x="20588" y="7491"/>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7920000" y="1776240"/>
            <a:ext cx="1125720" cy="903600"/>
          </a:xfrm>
          <a:custGeom>
            <a:avLst/>
            <a:gdLst/>
            <a:ahLst/>
            <a:rect l="l" t="t" r="r" b="b"/>
            <a:pathLst>
              <a:path w="3126" h="2506">
                <a:moveTo>
                  <a:pt x="22696" y="5581"/>
                </a:moveTo>
                <a:cubicBezTo>
                  <a:pt x="22757" y="5551"/>
                  <a:pt x="22570" y="5527"/>
                  <a:pt x="22547" y="5531"/>
                </a:cubicBezTo>
                <a:cubicBezTo>
                  <a:pt x="22522" y="5535"/>
                  <a:pt x="22500" y="5774"/>
                  <a:pt x="22498" y="5804"/>
                </a:cubicBezTo>
                <a:cubicBezTo>
                  <a:pt x="22498" y="5812"/>
                  <a:pt x="22498" y="5821"/>
                  <a:pt x="22498" y="5829"/>
                </a:cubicBezTo>
                <a:cubicBezTo>
                  <a:pt x="22601" y="5787"/>
                  <a:pt x="22719" y="5735"/>
                  <a:pt x="22771" y="5879"/>
                </a:cubicBezTo>
                <a:cubicBezTo>
                  <a:pt x="22834" y="6054"/>
                  <a:pt x="22566" y="6048"/>
                  <a:pt x="22473" y="6052"/>
                </a:cubicBezTo>
                <a:cubicBezTo>
                  <a:pt x="22430" y="6052"/>
                  <a:pt x="22428" y="6035"/>
                  <a:pt x="22473" y="5978"/>
                </a:cubicBezTo>
              </a:path>
              <a:path w="3126" h="2506">
                <a:moveTo>
                  <a:pt x="23044" y="5556"/>
                </a:moveTo>
                <a:cubicBezTo>
                  <a:pt x="23187" y="5540"/>
                  <a:pt x="23247" y="5676"/>
                  <a:pt x="23217" y="5829"/>
                </a:cubicBezTo>
                <a:cubicBezTo>
                  <a:pt x="23185" y="5992"/>
                  <a:pt x="23040" y="5990"/>
                  <a:pt x="22920" y="5953"/>
                </a:cubicBezTo>
                <a:cubicBezTo>
                  <a:pt x="22920" y="5884"/>
                  <a:pt x="22947" y="5812"/>
                  <a:pt x="23044" y="5854"/>
                </a:cubicBezTo>
                <a:cubicBezTo>
                  <a:pt x="23109" y="5882"/>
                  <a:pt x="23155" y="5990"/>
                  <a:pt x="23168" y="6052"/>
                </a:cubicBezTo>
              </a:path>
              <a:path w="3126" h="2506">
                <a:moveTo>
                  <a:pt x="23614" y="5531"/>
                </a:moveTo>
                <a:cubicBezTo>
                  <a:pt x="23581" y="5531"/>
                  <a:pt x="23548" y="5531"/>
                  <a:pt x="23515" y="5531"/>
                </a:cubicBezTo>
                <a:cubicBezTo>
                  <a:pt x="23483" y="5675"/>
                  <a:pt x="23587" y="5707"/>
                  <a:pt x="23664" y="5829"/>
                </a:cubicBezTo>
                <a:cubicBezTo>
                  <a:pt x="23705" y="5912"/>
                  <a:pt x="23713" y="5928"/>
                  <a:pt x="23738" y="5978"/>
                </a:cubicBezTo>
                <a:cubicBezTo>
                  <a:pt x="23659" y="6025"/>
                  <a:pt x="23502" y="6088"/>
                  <a:pt x="23515" y="5928"/>
                </a:cubicBezTo>
                <a:cubicBezTo>
                  <a:pt x="23525" y="5805"/>
                  <a:pt x="23645" y="5741"/>
                  <a:pt x="23713" y="5655"/>
                </a:cubicBezTo>
                <a:cubicBezTo>
                  <a:pt x="23792" y="5555"/>
                  <a:pt x="23772" y="5570"/>
                  <a:pt x="23688" y="5531"/>
                </a:cubicBezTo>
                <a:cubicBezTo>
                  <a:pt x="23645" y="5510"/>
                  <a:pt x="23633" y="5497"/>
                  <a:pt x="23614" y="5531"/>
                </a:cubicBezTo>
              </a:path>
              <a:path w="3126" h="2506">
                <a:moveTo>
                  <a:pt x="24185" y="5531"/>
                </a:moveTo>
                <a:cubicBezTo>
                  <a:pt x="24253" y="5531"/>
                  <a:pt x="24326" y="5487"/>
                  <a:pt x="24383" y="5531"/>
                </a:cubicBezTo>
                <a:cubicBezTo>
                  <a:pt x="24445" y="5579"/>
                  <a:pt x="24389" y="5677"/>
                  <a:pt x="24333" y="5705"/>
                </a:cubicBezTo>
                <a:cubicBezTo>
                  <a:pt x="24309" y="5705"/>
                  <a:pt x="24301" y="5705"/>
                  <a:pt x="24309" y="5680"/>
                </a:cubicBezTo>
                <a:cubicBezTo>
                  <a:pt x="24398" y="5680"/>
                  <a:pt x="24545" y="5659"/>
                  <a:pt x="24507" y="5804"/>
                </a:cubicBezTo>
                <a:cubicBezTo>
                  <a:pt x="24478" y="5916"/>
                  <a:pt x="24398" y="5986"/>
                  <a:pt x="24383" y="5854"/>
                </a:cubicBezTo>
              </a:path>
              <a:path w="3126" h="2506">
                <a:moveTo>
                  <a:pt x="24656" y="5507"/>
                </a:moveTo>
                <a:cubicBezTo>
                  <a:pt x="24713" y="5493"/>
                  <a:pt x="24729" y="5467"/>
                  <a:pt x="24805" y="5482"/>
                </a:cubicBezTo>
                <a:cubicBezTo>
                  <a:pt x="24916" y="5504"/>
                  <a:pt x="24973" y="5542"/>
                  <a:pt x="24929" y="5655"/>
                </a:cubicBezTo>
                <a:cubicBezTo>
                  <a:pt x="24891" y="5754"/>
                  <a:pt x="24827" y="5807"/>
                  <a:pt x="24755" y="5879"/>
                </a:cubicBezTo>
                <a:cubicBezTo>
                  <a:pt x="24845" y="5879"/>
                  <a:pt x="24917" y="5892"/>
                  <a:pt x="25003" y="5904"/>
                </a:cubicBezTo>
                <a:cubicBezTo>
                  <a:pt x="25060" y="5912"/>
                  <a:pt x="25063" y="5885"/>
                  <a:pt x="25078" y="5928"/>
                </a:cubicBezTo>
              </a:path>
              <a:path w="3126" h="2506">
                <a:moveTo>
                  <a:pt x="22002" y="6400"/>
                </a:moveTo>
                <a:cubicBezTo>
                  <a:pt x="22074" y="6400"/>
                  <a:pt x="22131" y="6381"/>
                  <a:pt x="22200" y="6375"/>
                </a:cubicBezTo>
                <a:cubicBezTo>
                  <a:pt x="22208" y="6375"/>
                  <a:pt x="22217" y="6375"/>
                  <a:pt x="22225" y="6375"/>
                </a:cubicBezTo>
              </a:path>
              <a:path w="3126" h="2506">
                <a:moveTo>
                  <a:pt x="23044" y="6325"/>
                </a:moveTo>
                <a:cubicBezTo>
                  <a:pt x="23044" y="6294"/>
                  <a:pt x="23036" y="6259"/>
                  <a:pt x="23019" y="6251"/>
                </a:cubicBezTo>
                <a:cubicBezTo>
                  <a:pt x="22985" y="6234"/>
                  <a:pt x="22942" y="6257"/>
                  <a:pt x="22920" y="6276"/>
                </a:cubicBezTo>
                <a:cubicBezTo>
                  <a:pt x="22857" y="6331"/>
                  <a:pt x="22917" y="6409"/>
                  <a:pt x="22969" y="6449"/>
                </a:cubicBezTo>
                <a:cubicBezTo>
                  <a:pt x="23021" y="6489"/>
                  <a:pt x="23070" y="6485"/>
                  <a:pt x="23093" y="6548"/>
                </a:cubicBezTo>
                <a:cubicBezTo>
                  <a:pt x="23093" y="6556"/>
                  <a:pt x="23093" y="6565"/>
                  <a:pt x="23093" y="6573"/>
                </a:cubicBezTo>
                <a:cubicBezTo>
                  <a:pt x="23082" y="6578"/>
                  <a:pt x="22989" y="6622"/>
                  <a:pt x="22969" y="6598"/>
                </a:cubicBezTo>
                <a:cubicBezTo>
                  <a:pt x="22948" y="6572"/>
                  <a:pt x="22929" y="6553"/>
                  <a:pt x="22944" y="6524"/>
                </a:cubicBezTo>
                <a:cubicBezTo>
                  <a:pt x="22964" y="6485"/>
                  <a:pt x="23003" y="6445"/>
                  <a:pt x="23019" y="6424"/>
                </a:cubicBezTo>
                <a:cubicBezTo>
                  <a:pt x="23043" y="6392"/>
                  <a:pt x="23080" y="6387"/>
                  <a:pt x="23093" y="6350"/>
                </a:cubicBezTo>
                <a:cubicBezTo>
                  <a:pt x="23093" y="6309"/>
                  <a:pt x="23093" y="6301"/>
                  <a:pt x="23093" y="6276"/>
                </a:cubicBezTo>
              </a:path>
              <a:path w="3126" h="2506">
                <a:moveTo>
                  <a:pt x="23664" y="6375"/>
                </a:moveTo>
                <a:cubicBezTo>
                  <a:pt x="23664" y="6321"/>
                  <a:pt x="23660" y="6299"/>
                  <a:pt x="23614" y="6276"/>
                </a:cubicBezTo>
                <a:cubicBezTo>
                  <a:pt x="23523" y="6231"/>
                  <a:pt x="23486" y="6254"/>
                  <a:pt x="23440" y="6350"/>
                </a:cubicBezTo>
                <a:cubicBezTo>
                  <a:pt x="23414" y="6405"/>
                  <a:pt x="23416" y="6443"/>
                  <a:pt x="23416" y="6499"/>
                </a:cubicBezTo>
                <a:cubicBezTo>
                  <a:pt x="23525" y="6499"/>
                  <a:pt x="23558" y="6497"/>
                  <a:pt x="23639" y="6424"/>
                </a:cubicBezTo>
                <a:cubicBezTo>
                  <a:pt x="23683" y="6384"/>
                  <a:pt x="23681" y="6355"/>
                  <a:pt x="23688" y="6300"/>
                </a:cubicBezTo>
                <a:cubicBezTo>
                  <a:pt x="23659" y="6361"/>
                  <a:pt x="23704" y="6486"/>
                  <a:pt x="23713" y="6573"/>
                </a:cubicBezTo>
                <a:cubicBezTo>
                  <a:pt x="23717" y="6613"/>
                  <a:pt x="23713" y="6656"/>
                  <a:pt x="23713" y="6697"/>
                </a:cubicBezTo>
              </a:path>
              <a:path w="3126" h="2506">
                <a:moveTo>
                  <a:pt x="24011" y="6548"/>
                </a:moveTo>
                <a:cubicBezTo>
                  <a:pt x="24046" y="6548"/>
                  <a:pt x="24156" y="6543"/>
                  <a:pt x="24110" y="6623"/>
                </a:cubicBezTo>
                <a:cubicBezTo>
                  <a:pt x="24085" y="6623"/>
                  <a:pt x="24077" y="6623"/>
                  <a:pt x="24061" y="6623"/>
                </a:cubicBezTo>
              </a:path>
              <a:path w="3126" h="2506">
                <a:moveTo>
                  <a:pt x="24507" y="6201"/>
                </a:moveTo>
                <a:cubicBezTo>
                  <a:pt x="24444" y="6207"/>
                  <a:pt x="24398" y="6207"/>
                  <a:pt x="24383" y="6276"/>
                </a:cubicBezTo>
                <a:cubicBezTo>
                  <a:pt x="24353" y="6413"/>
                  <a:pt x="24461" y="6358"/>
                  <a:pt x="24532" y="6350"/>
                </a:cubicBezTo>
                <a:cubicBezTo>
                  <a:pt x="24636" y="6338"/>
                  <a:pt x="24708" y="6421"/>
                  <a:pt x="24656" y="6524"/>
                </a:cubicBezTo>
                <a:cubicBezTo>
                  <a:pt x="24632" y="6571"/>
                  <a:pt x="24481" y="6579"/>
                  <a:pt x="24482" y="6573"/>
                </a:cubicBezTo>
                <a:cubicBezTo>
                  <a:pt x="24490" y="6557"/>
                  <a:pt x="24499" y="6540"/>
                  <a:pt x="24507" y="6524"/>
                </a:cubicBezTo>
              </a:path>
              <a:path w="3126" h="2506">
                <a:moveTo>
                  <a:pt x="24780" y="6201"/>
                </a:moveTo>
                <a:cubicBezTo>
                  <a:pt x="24842" y="6201"/>
                  <a:pt x="24921" y="6191"/>
                  <a:pt x="24978" y="6176"/>
                </a:cubicBezTo>
                <a:cubicBezTo>
                  <a:pt x="25043" y="6159"/>
                  <a:pt x="25034" y="6152"/>
                  <a:pt x="25102" y="6152"/>
                </a:cubicBezTo>
                <a:cubicBezTo>
                  <a:pt x="25102" y="6258"/>
                  <a:pt x="25067" y="6348"/>
                  <a:pt x="25053" y="6449"/>
                </a:cubicBezTo>
                <a:cubicBezTo>
                  <a:pt x="25048" y="6486"/>
                  <a:pt x="25053" y="6534"/>
                  <a:pt x="25053" y="6573"/>
                </a:cubicBezTo>
              </a:path>
              <a:path w="3126" h="2506">
                <a:moveTo>
                  <a:pt x="23986" y="5928"/>
                </a:moveTo>
                <a:cubicBezTo>
                  <a:pt x="23999" y="5889"/>
                  <a:pt x="23998" y="5918"/>
                  <a:pt x="24011" y="5879"/>
                </a:cubicBezTo>
                <a:cubicBezTo>
                  <a:pt x="24021" y="5919"/>
                  <a:pt x="24029" y="5942"/>
                  <a:pt x="24061" y="5953"/>
                </a:cubicBezTo>
              </a:path>
              <a:path w="3126" h="2506">
                <a:moveTo>
                  <a:pt x="22175" y="6821"/>
                </a:moveTo>
                <a:cubicBezTo>
                  <a:pt x="22246" y="6821"/>
                  <a:pt x="22306" y="6804"/>
                  <a:pt x="22374" y="6796"/>
                </a:cubicBezTo>
                <a:cubicBezTo>
                  <a:pt x="22508" y="6781"/>
                  <a:pt x="22638" y="6818"/>
                  <a:pt x="22771" y="6821"/>
                </a:cubicBezTo>
                <a:cubicBezTo>
                  <a:pt x="22918" y="6825"/>
                  <a:pt x="23050" y="6830"/>
                  <a:pt x="23192" y="6846"/>
                </a:cubicBezTo>
                <a:cubicBezTo>
                  <a:pt x="23269" y="6855"/>
                  <a:pt x="23332" y="6821"/>
                  <a:pt x="23416" y="6821"/>
                </a:cubicBezTo>
                <a:cubicBezTo>
                  <a:pt x="23729" y="6821"/>
                  <a:pt x="24051" y="6802"/>
                  <a:pt x="24358" y="6846"/>
                </a:cubicBezTo>
                <a:cubicBezTo>
                  <a:pt x="24474" y="6863"/>
                  <a:pt x="24606" y="6838"/>
                  <a:pt x="24705" y="6821"/>
                </a:cubicBezTo>
                <a:cubicBezTo>
                  <a:pt x="24794" y="6806"/>
                  <a:pt x="24892" y="6810"/>
                  <a:pt x="24978" y="6796"/>
                </a:cubicBezTo>
                <a:cubicBezTo>
                  <a:pt x="25025" y="6789"/>
                  <a:pt x="25079" y="6796"/>
                  <a:pt x="25127" y="6796"/>
                </a:cubicBezTo>
              </a:path>
              <a:path w="3126" h="2506">
                <a:moveTo>
                  <a:pt x="24606" y="5259"/>
                </a:moveTo>
                <a:cubicBezTo>
                  <a:pt x="24640" y="5275"/>
                  <a:pt x="24551" y="5400"/>
                  <a:pt x="24532" y="5457"/>
                </a:cubicBezTo>
                <a:cubicBezTo>
                  <a:pt x="24490" y="5578"/>
                  <a:pt x="24480" y="5709"/>
                  <a:pt x="24433" y="5829"/>
                </a:cubicBezTo>
                <a:cubicBezTo>
                  <a:pt x="24416" y="5872"/>
                  <a:pt x="24386" y="5921"/>
                  <a:pt x="24358" y="5953"/>
                </a:cubicBezTo>
                <a:cubicBezTo>
                  <a:pt x="24323" y="5992"/>
                  <a:pt x="24292" y="6105"/>
                  <a:pt x="24259" y="6127"/>
                </a:cubicBezTo>
                <a:cubicBezTo>
                  <a:pt x="24232" y="6145"/>
                  <a:pt x="24219" y="6170"/>
                  <a:pt x="24209" y="6201"/>
                </a:cubicBezTo>
              </a:path>
              <a:path w="3126" h="2506">
                <a:moveTo>
                  <a:pt x="24234" y="4986"/>
                </a:moveTo>
                <a:cubicBezTo>
                  <a:pt x="24180" y="4959"/>
                  <a:pt x="24290" y="4943"/>
                  <a:pt x="24333" y="4936"/>
                </a:cubicBezTo>
                <a:cubicBezTo>
                  <a:pt x="24366" y="5036"/>
                  <a:pt x="24306" y="5103"/>
                  <a:pt x="24234" y="5184"/>
                </a:cubicBezTo>
                <a:cubicBezTo>
                  <a:pt x="24198" y="5224"/>
                  <a:pt x="24154" y="5271"/>
                  <a:pt x="24135" y="5308"/>
                </a:cubicBezTo>
                <a:cubicBezTo>
                  <a:pt x="24188" y="5308"/>
                  <a:pt x="24205" y="5288"/>
                  <a:pt x="24259" y="5283"/>
                </a:cubicBezTo>
                <a:cubicBezTo>
                  <a:pt x="24311" y="5279"/>
                  <a:pt x="24313" y="5298"/>
                  <a:pt x="24333" y="5308"/>
                </a:cubicBezTo>
                <a:cubicBezTo>
                  <a:pt x="24341" y="5308"/>
                  <a:pt x="24350" y="5308"/>
                  <a:pt x="24358" y="5308"/>
                </a:cubicBezTo>
              </a:path>
              <a:path w="3126" h="2506">
                <a:moveTo>
                  <a:pt x="24755" y="5333"/>
                </a:moveTo>
                <a:cubicBezTo>
                  <a:pt x="24755" y="5325"/>
                  <a:pt x="24755" y="5316"/>
                  <a:pt x="24755" y="5308"/>
                </a:cubicBezTo>
                <a:cubicBezTo>
                  <a:pt x="24755" y="5359"/>
                  <a:pt x="24748" y="5391"/>
                  <a:pt x="24730" y="5432"/>
                </a:cubicBezTo>
                <a:cubicBezTo>
                  <a:pt x="24707" y="5484"/>
                  <a:pt x="24705" y="5502"/>
                  <a:pt x="24705" y="5556"/>
                </a:cubicBezTo>
                <a:cubicBezTo>
                  <a:pt x="24705" y="5628"/>
                  <a:pt x="24723" y="5723"/>
                  <a:pt x="24681" y="5779"/>
                </a:cubicBezTo>
              </a:path>
              <a:path w="3126" h="2506">
                <a:moveTo>
                  <a:pt x="25102" y="6995"/>
                </a:moveTo>
                <a:cubicBezTo>
                  <a:pt x="25143" y="6995"/>
                  <a:pt x="25069" y="6995"/>
                  <a:pt x="25028" y="6995"/>
                </a:cubicBezTo>
                <a:cubicBezTo>
                  <a:pt x="24976" y="6995"/>
                  <a:pt x="24976" y="6990"/>
                  <a:pt x="24954" y="7020"/>
                </a:cubicBezTo>
                <a:cubicBezTo>
                  <a:pt x="24918" y="7069"/>
                  <a:pt x="24920" y="7098"/>
                  <a:pt x="24954" y="7144"/>
                </a:cubicBezTo>
                <a:cubicBezTo>
                  <a:pt x="24976" y="7127"/>
                  <a:pt x="25019" y="7100"/>
                  <a:pt x="25053" y="7119"/>
                </a:cubicBezTo>
                <a:cubicBezTo>
                  <a:pt x="25088" y="7138"/>
                  <a:pt x="25109" y="7158"/>
                  <a:pt x="25127" y="7193"/>
                </a:cubicBezTo>
                <a:cubicBezTo>
                  <a:pt x="25157" y="7253"/>
                  <a:pt x="25111" y="7290"/>
                  <a:pt x="25078" y="7317"/>
                </a:cubicBezTo>
                <a:cubicBezTo>
                  <a:pt x="25038" y="7350"/>
                  <a:pt x="25005" y="7342"/>
                  <a:pt x="24954" y="7342"/>
                </a:cubicBezTo>
                <a:cubicBezTo>
                  <a:pt x="24942" y="7342"/>
                  <a:pt x="24888" y="7304"/>
                  <a:pt x="24904" y="7293"/>
                </a:cubicBezTo>
                <a:cubicBezTo>
                  <a:pt x="24912" y="7293"/>
                  <a:pt x="24921" y="7293"/>
                  <a:pt x="24929" y="7293"/>
                </a:cubicBezTo>
              </a:path>
              <a:path w="3126" h="2506">
                <a:moveTo>
                  <a:pt x="23812" y="5432"/>
                </a:moveTo>
                <a:cubicBezTo>
                  <a:pt x="23788" y="5432"/>
                  <a:pt x="23780" y="5432"/>
                  <a:pt x="23788" y="5407"/>
                </a:cubicBezTo>
                <a:cubicBezTo>
                  <a:pt x="23788" y="5432"/>
                  <a:pt x="23788" y="5440"/>
                  <a:pt x="23763" y="5432"/>
                </a:cubicBezTo>
                <a:cubicBezTo>
                  <a:pt x="23756" y="5462"/>
                  <a:pt x="23745" y="5477"/>
                  <a:pt x="23738" y="5507"/>
                </a:cubicBezTo>
                <a:cubicBezTo>
                  <a:pt x="23691" y="5530"/>
                  <a:pt x="23698" y="5567"/>
                  <a:pt x="23664" y="5606"/>
                </a:cubicBezTo>
                <a:cubicBezTo>
                  <a:pt x="23642" y="5628"/>
                  <a:pt x="23633" y="5633"/>
                  <a:pt x="23639" y="5655"/>
                </a:cubicBezTo>
                <a:cubicBezTo>
                  <a:pt x="23605" y="5666"/>
                  <a:pt x="23587" y="5710"/>
                  <a:pt x="23564" y="5755"/>
                </a:cubicBezTo>
                <a:cubicBezTo>
                  <a:pt x="23536" y="5809"/>
                  <a:pt x="23519" y="5849"/>
                  <a:pt x="23490" y="5904"/>
                </a:cubicBezTo>
                <a:cubicBezTo>
                  <a:pt x="23467" y="5948"/>
                  <a:pt x="23447" y="5994"/>
                  <a:pt x="23416" y="6028"/>
                </a:cubicBezTo>
                <a:cubicBezTo>
                  <a:pt x="23386" y="6061"/>
                  <a:pt x="23354" y="6113"/>
                  <a:pt x="23341" y="6152"/>
                </a:cubicBezTo>
                <a:cubicBezTo>
                  <a:pt x="23341" y="6176"/>
                  <a:pt x="23341" y="6184"/>
                  <a:pt x="23341" y="6152"/>
                </a:cubicBezTo>
              </a:path>
              <a:path w="3126" h="2506">
                <a:moveTo>
                  <a:pt x="23391" y="5035"/>
                </a:moveTo>
                <a:cubicBezTo>
                  <a:pt x="23449" y="5035"/>
                  <a:pt x="23506" y="5035"/>
                  <a:pt x="23564" y="5035"/>
                </a:cubicBezTo>
                <a:cubicBezTo>
                  <a:pt x="23564" y="5089"/>
                  <a:pt x="23565" y="5163"/>
                  <a:pt x="23540" y="5209"/>
                </a:cubicBezTo>
                <a:cubicBezTo>
                  <a:pt x="23513" y="5259"/>
                  <a:pt x="23480" y="5308"/>
                  <a:pt x="23465" y="5358"/>
                </a:cubicBezTo>
                <a:cubicBezTo>
                  <a:pt x="23465" y="5366"/>
                  <a:pt x="23465" y="5375"/>
                  <a:pt x="23465" y="5383"/>
                </a:cubicBezTo>
              </a:path>
              <a:path w="3126" h="2506">
                <a:moveTo>
                  <a:pt x="23986" y="5060"/>
                </a:moveTo>
                <a:cubicBezTo>
                  <a:pt x="23970" y="5012"/>
                  <a:pt x="23987" y="5038"/>
                  <a:pt x="23961" y="4986"/>
                </a:cubicBezTo>
                <a:cubicBezTo>
                  <a:pt x="23961" y="5041"/>
                  <a:pt x="23953" y="5109"/>
                  <a:pt x="23937" y="5159"/>
                </a:cubicBezTo>
                <a:cubicBezTo>
                  <a:pt x="23918" y="5219"/>
                  <a:pt x="23912" y="5243"/>
                  <a:pt x="23912" y="5308"/>
                </a:cubicBezTo>
                <a:cubicBezTo>
                  <a:pt x="23912" y="5316"/>
                  <a:pt x="23912" y="5325"/>
                  <a:pt x="23912" y="5333"/>
                </a:cubicBezTo>
              </a:path>
              <a:path w="3126" h="2506">
                <a:moveTo>
                  <a:pt x="24333" y="6995"/>
                </a:moveTo>
                <a:cubicBezTo>
                  <a:pt x="24386" y="6977"/>
                  <a:pt x="24366" y="6988"/>
                  <a:pt x="24457" y="6970"/>
                </a:cubicBezTo>
                <a:cubicBezTo>
                  <a:pt x="24520" y="6957"/>
                  <a:pt x="24546" y="6945"/>
                  <a:pt x="24606" y="6945"/>
                </a:cubicBezTo>
                <a:cubicBezTo>
                  <a:pt x="24614" y="6945"/>
                  <a:pt x="24623" y="6945"/>
                  <a:pt x="24631" y="6945"/>
                </a:cubicBezTo>
                <a:cubicBezTo>
                  <a:pt x="24631" y="7028"/>
                  <a:pt x="24596" y="7072"/>
                  <a:pt x="24557" y="7144"/>
                </a:cubicBezTo>
                <a:cubicBezTo>
                  <a:pt x="24530" y="7193"/>
                  <a:pt x="24478" y="7246"/>
                  <a:pt x="24457" y="7293"/>
                </a:cubicBezTo>
                <a:cubicBezTo>
                  <a:pt x="24445" y="7320"/>
                  <a:pt x="24412" y="7358"/>
                  <a:pt x="24408" y="7367"/>
                </a:cubicBezTo>
                <a:cubicBezTo>
                  <a:pt x="24408" y="7375"/>
                  <a:pt x="24408" y="7384"/>
                  <a:pt x="24408" y="7392"/>
                </a:cubicBezTo>
              </a:path>
              <a:path w="3126" h="2506">
                <a:moveTo>
                  <a:pt x="24011" y="7342"/>
                </a:moveTo>
                <a:cubicBezTo>
                  <a:pt x="23999" y="7307"/>
                  <a:pt x="24004" y="7317"/>
                  <a:pt x="23961" y="7317"/>
                </a:cubicBezTo>
                <a:cubicBezTo>
                  <a:pt x="23961" y="7345"/>
                  <a:pt x="23963" y="7351"/>
                  <a:pt x="23986" y="7317"/>
                </a:cubicBezTo>
              </a:path>
              <a:path w="3126" h="2506">
                <a:moveTo>
                  <a:pt x="22969" y="5556"/>
                </a:moveTo>
                <a:cubicBezTo>
                  <a:pt x="22969" y="5493"/>
                  <a:pt x="23010" y="5680"/>
                  <a:pt x="23019" y="5705"/>
                </a:cubicBezTo>
                <a:cubicBezTo>
                  <a:pt x="23039" y="5764"/>
                  <a:pt x="23085" y="5851"/>
                  <a:pt x="23093" y="5904"/>
                </a:cubicBezTo>
                <a:cubicBezTo>
                  <a:pt x="23103" y="5972"/>
                  <a:pt x="23118" y="6033"/>
                  <a:pt x="23118" y="6102"/>
                </a:cubicBezTo>
                <a:cubicBezTo>
                  <a:pt x="23118" y="6146"/>
                  <a:pt x="23116" y="6141"/>
                  <a:pt x="23143" y="6176"/>
                </a:cubicBezTo>
              </a:path>
              <a:path w="3126" h="2506">
                <a:moveTo>
                  <a:pt x="22969" y="5184"/>
                </a:moveTo>
                <a:cubicBezTo>
                  <a:pt x="23026" y="5241"/>
                  <a:pt x="22961" y="5330"/>
                  <a:pt x="22969" y="5407"/>
                </a:cubicBezTo>
                <a:cubicBezTo>
                  <a:pt x="22974" y="5452"/>
                  <a:pt x="22994" y="5482"/>
                  <a:pt x="22994" y="5531"/>
                </a:cubicBezTo>
              </a:path>
              <a:path w="3126" h="2506">
                <a:moveTo>
                  <a:pt x="23316" y="5184"/>
                </a:moveTo>
                <a:cubicBezTo>
                  <a:pt x="23308" y="5241"/>
                  <a:pt x="23292" y="5272"/>
                  <a:pt x="23292" y="5333"/>
                </a:cubicBezTo>
                <a:cubicBezTo>
                  <a:pt x="23292" y="5341"/>
                  <a:pt x="23292" y="5350"/>
                  <a:pt x="23292" y="5358"/>
                </a:cubicBezTo>
              </a:path>
              <a:path w="3126" h="2506">
                <a:moveTo>
                  <a:pt x="23688" y="7119"/>
                </a:moveTo>
                <a:cubicBezTo>
                  <a:pt x="23724" y="7092"/>
                  <a:pt x="23727" y="7102"/>
                  <a:pt x="23738" y="7069"/>
                </a:cubicBezTo>
                <a:cubicBezTo>
                  <a:pt x="23691" y="7009"/>
                  <a:pt x="23713" y="7020"/>
                  <a:pt x="23614" y="7020"/>
                </a:cubicBezTo>
                <a:cubicBezTo>
                  <a:pt x="23578" y="7020"/>
                  <a:pt x="23549" y="7038"/>
                  <a:pt x="23515" y="7045"/>
                </a:cubicBezTo>
                <a:cubicBezTo>
                  <a:pt x="23538" y="7181"/>
                  <a:pt x="23587" y="7115"/>
                  <a:pt x="23664" y="7193"/>
                </a:cubicBezTo>
                <a:cubicBezTo>
                  <a:pt x="23684" y="7213"/>
                  <a:pt x="23786" y="7338"/>
                  <a:pt x="23713" y="7367"/>
                </a:cubicBezTo>
                <a:cubicBezTo>
                  <a:pt x="23627" y="7401"/>
                  <a:pt x="23618" y="7407"/>
                  <a:pt x="23564" y="7367"/>
                </a:cubicBezTo>
                <a:cubicBezTo>
                  <a:pt x="23564" y="7339"/>
                  <a:pt x="23571" y="7283"/>
                  <a:pt x="23589" y="7268"/>
                </a:cubicBezTo>
                <a:cubicBezTo>
                  <a:pt x="23629" y="7235"/>
                  <a:pt x="23687" y="7212"/>
                  <a:pt x="23713" y="7193"/>
                </a:cubicBezTo>
                <a:cubicBezTo>
                  <a:pt x="23756" y="7162"/>
                  <a:pt x="23742" y="7125"/>
                  <a:pt x="23788" y="7094"/>
                </a:cubicBezTo>
                <a:cubicBezTo>
                  <a:pt x="23812" y="7094"/>
                  <a:pt x="23820" y="7094"/>
                  <a:pt x="23812" y="7069"/>
                </a:cubicBezTo>
              </a:path>
              <a:path w="3126" h="2506">
                <a:moveTo>
                  <a:pt x="22696" y="5531"/>
                </a:moveTo>
                <a:cubicBezTo>
                  <a:pt x="22684" y="5578"/>
                  <a:pt x="22651" y="5569"/>
                  <a:pt x="22647" y="5606"/>
                </a:cubicBezTo>
                <a:cubicBezTo>
                  <a:pt x="22642" y="5647"/>
                  <a:pt x="22595" y="5664"/>
                  <a:pt x="22572" y="5705"/>
                </a:cubicBezTo>
                <a:cubicBezTo>
                  <a:pt x="22532" y="5775"/>
                  <a:pt x="22510" y="5855"/>
                  <a:pt x="22473" y="5928"/>
                </a:cubicBezTo>
                <a:cubicBezTo>
                  <a:pt x="22441" y="5992"/>
                  <a:pt x="22381" y="6029"/>
                  <a:pt x="22374" y="6102"/>
                </a:cubicBezTo>
                <a:cubicBezTo>
                  <a:pt x="22371" y="6131"/>
                  <a:pt x="22314" y="6219"/>
                  <a:pt x="22299" y="6251"/>
                </a:cubicBezTo>
                <a:cubicBezTo>
                  <a:pt x="22291" y="6259"/>
                  <a:pt x="22283" y="6268"/>
                  <a:pt x="22275" y="6276"/>
                </a:cubicBezTo>
              </a:path>
              <a:path w="3126" h="2506">
                <a:moveTo>
                  <a:pt x="22151" y="5581"/>
                </a:moveTo>
                <a:cubicBezTo>
                  <a:pt x="22098" y="5647"/>
                  <a:pt x="22036" y="5716"/>
                  <a:pt x="22027" y="5804"/>
                </a:cubicBezTo>
                <a:cubicBezTo>
                  <a:pt x="22027" y="5812"/>
                  <a:pt x="22027" y="5821"/>
                  <a:pt x="22027" y="5829"/>
                </a:cubicBezTo>
                <a:cubicBezTo>
                  <a:pt x="22093" y="5829"/>
                  <a:pt x="22159" y="5829"/>
                  <a:pt x="22225" y="5829"/>
                </a:cubicBezTo>
              </a:path>
              <a:path w="3126" h="2506">
                <a:moveTo>
                  <a:pt x="22721" y="5234"/>
                </a:moveTo>
                <a:cubicBezTo>
                  <a:pt x="22721" y="5308"/>
                  <a:pt x="22721" y="5333"/>
                  <a:pt x="22721" y="5407"/>
                </a:cubicBezTo>
                <a:cubicBezTo>
                  <a:pt x="22721" y="5450"/>
                  <a:pt x="22711" y="5445"/>
                  <a:pt x="22746" y="5457"/>
                </a:cubicBezTo>
              </a:path>
              <a:path w="3126" h="2506">
                <a:moveTo>
                  <a:pt x="22895" y="7094"/>
                </a:moveTo>
                <a:cubicBezTo>
                  <a:pt x="22908" y="7054"/>
                  <a:pt x="22931" y="7079"/>
                  <a:pt x="22969" y="7045"/>
                </a:cubicBezTo>
                <a:cubicBezTo>
                  <a:pt x="22992" y="7022"/>
                  <a:pt x="22996" y="7014"/>
                  <a:pt x="23019" y="7020"/>
                </a:cubicBezTo>
                <a:cubicBezTo>
                  <a:pt x="23019" y="7092"/>
                  <a:pt x="23042" y="7136"/>
                  <a:pt x="22969" y="7169"/>
                </a:cubicBezTo>
                <a:cubicBezTo>
                  <a:pt x="22944" y="7169"/>
                  <a:pt x="22936" y="7169"/>
                  <a:pt x="22944" y="7193"/>
                </a:cubicBezTo>
                <a:cubicBezTo>
                  <a:pt x="22975" y="7193"/>
                  <a:pt x="23102" y="7185"/>
                  <a:pt x="23068" y="7268"/>
                </a:cubicBezTo>
                <a:cubicBezTo>
                  <a:pt x="23033" y="7353"/>
                  <a:pt x="22923" y="7385"/>
                  <a:pt x="22845" y="7392"/>
                </a:cubicBezTo>
                <a:cubicBezTo>
                  <a:pt x="22807" y="7395"/>
                  <a:pt x="22829" y="7379"/>
                  <a:pt x="22796" y="7367"/>
                </a:cubicBezTo>
              </a:path>
              <a:path w="3126" h="2506">
                <a:moveTo>
                  <a:pt x="22324" y="7045"/>
                </a:moveTo>
                <a:cubicBezTo>
                  <a:pt x="22324" y="6992"/>
                  <a:pt x="22282" y="7106"/>
                  <a:pt x="22275" y="7144"/>
                </a:cubicBezTo>
                <a:cubicBezTo>
                  <a:pt x="22275" y="7152"/>
                  <a:pt x="22275" y="7161"/>
                  <a:pt x="22275" y="7169"/>
                </a:cubicBezTo>
                <a:cubicBezTo>
                  <a:pt x="22333" y="7169"/>
                  <a:pt x="22506" y="7143"/>
                  <a:pt x="22523" y="7193"/>
                </a:cubicBezTo>
              </a:path>
              <a:path w="3126" h="2506">
                <a:moveTo>
                  <a:pt x="22597" y="6970"/>
                </a:moveTo>
                <a:cubicBezTo>
                  <a:pt x="22541" y="6989"/>
                  <a:pt x="22572" y="7106"/>
                  <a:pt x="22572" y="7169"/>
                </a:cubicBezTo>
                <a:cubicBezTo>
                  <a:pt x="22572" y="7260"/>
                  <a:pt x="22572" y="7350"/>
                  <a:pt x="22572" y="7441"/>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7045200" y="3098880"/>
            <a:ext cx="839880" cy="303120"/>
          </a:xfrm>
          <a:custGeom>
            <a:avLst/>
            <a:gdLst/>
            <a:ahLst/>
            <a:rect l="l" t="t" r="r" b="b"/>
            <a:pathLst>
              <a:path w="2333" h="845">
                <a:moveTo>
                  <a:pt x="21803" y="9401"/>
                </a:moveTo>
                <a:cubicBezTo>
                  <a:pt x="21831" y="9458"/>
                  <a:pt x="21847" y="9472"/>
                  <a:pt x="21903" y="9426"/>
                </a:cubicBezTo>
              </a:path>
              <a:path w="2333" h="845">
                <a:moveTo>
                  <a:pt x="21903" y="9426"/>
                </a:moveTo>
                <a:lnTo>
                  <a:pt x="21903" y="9426"/>
                </a:lnTo>
              </a:path>
              <a:path w="2333" h="845">
                <a:moveTo>
                  <a:pt x="19571" y="8607"/>
                </a:moveTo>
                <a:cubicBezTo>
                  <a:pt x="19623" y="8772"/>
                  <a:pt x="19676" y="8893"/>
                  <a:pt x="19596" y="9054"/>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4599000" y="3143160"/>
            <a:ext cx="108000" cy="179640"/>
          </a:xfrm>
          <a:custGeom>
            <a:avLst/>
            <a:gdLst/>
            <a:ahLst/>
            <a:rect l="l" t="t" r="r" b="b"/>
            <a:pathLst>
              <a:path w="299" h="497">
                <a:moveTo>
                  <a:pt x="13047" y="8781"/>
                </a:moveTo>
                <a:cubicBezTo>
                  <a:pt x="12921" y="8828"/>
                  <a:pt x="12891" y="8840"/>
                  <a:pt x="12824" y="8954"/>
                </a:cubicBezTo>
                <a:cubicBezTo>
                  <a:pt x="12956" y="9011"/>
                  <a:pt x="13063" y="9034"/>
                  <a:pt x="13047" y="9178"/>
                </a:cubicBezTo>
                <a:cubicBezTo>
                  <a:pt x="12879" y="9234"/>
                  <a:pt x="12889" y="9227"/>
                  <a:pt x="12774" y="9103"/>
                </a:cubicBezTo>
              </a:path>
              <a:path w="299" h="497">
                <a:moveTo>
                  <a:pt x="12923" y="8731"/>
                </a:moveTo>
                <a:cubicBezTo>
                  <a:pt x="12964" y="8895"/>
                  <a:pt x="12987" y="9058"/>
                  <a:pt x="12998" y="9227"/>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4875120" y="3251160"/>
            <a:ext cx="1135080" cy="231840"/>
          </a:xfrm>
          <a:custGeom>
            <a:avLst/>
            <a:gdLst/>
            <a:ahLst/>
            <a:rect l="l" t="t" r="r" b="b"/>
            <a:pathLst>
              <a:path w="3152" h="646">
                <a:moveTo>
                  <a:pt x="13990" y="9054"/>
                </a:moveTo>
                <a:cubicBezTo>
                  <a:pt x="13877" y="9054"/>
                  <a:pt x="13750" y="9022"/>
                  <a:pt x="13643" y="9029"/>
                </a:cubicBezTo>
                <a:cubicBezTo>
                  <a:pt x="13626" y="9037"/>
                  <a:pt x="13610" y="9046"/>
                  <a:pt x="13593" y="9054"/>
                </a:cubicBezTo>
                <a:cubicBezTo>
                  <a:pt x="13608" y="9074"/>
                  <a:pt x="13593" y="9202"/>
                  <a:pt x="13618" y="9227"/>
                </a:cubicBezTo>
                <a:cubicBezTo>
                  <a:pt x="13679" y="9286"/>
                  <a:pt x="13849" y="9191"/>
                  <a:pt x="13940" y="9277"/>
                </a:cubicBezTo>
                <a:cubicBezTo>
                  <a:pt x="14088" y="9418"/>
                  <a:pt x="13735" y="9585"/>
                  <a:pt x="13618" y="9550"/>
                </a:cubicBezTo>
                <a:cubicBezTo>
                  <a:pt x="13593" y="9525"/>
                  <a:pt x="13568" y="9500"/>
                  <a:pt x="13543" y="9475"/>
                </a:cubicBezTo>
              </a:path>
              <a:path w="3152" h="646">
                <a:moveTo>
                  <a:pt x="14362" y="9128"/>
                </a:moveTo>
                <a:cubicBezTo>
                  <a:pt x="14315" y="9104"/>
                  <a:pt x="14421" y="9059"/>
                  <a:pt x="14461" y="9054"/>
                </a:cubicBezTo>
                <a:cubicBezTo>
                  <a:pt x="14668" y="9026"/>
                  <a:pt x="14740" y="9229"/>
                  <a:pt x="14635" y="9401"/>
                </a:cubicBezTo>
                <a:cubicBezTo>
                  <a:pt x="14526" y="9580"/>
                  <a:pt x="14302" y="9543"/>
                  <a:pt x="14188" y="9451"/>
                </a:cubicBezTo>
                <a:cubicBezTo>
                  <a:pt x="14256" y="9356"/>
                  <a:pt x="14357" y="9339"/>
                  <a:pt x="14461" y="9426"/>
                </a:cubicBezTo>
                <a:cubicBezTo>
                  <a:pt x="14522" y="9507"/>
                  <a:pt x="14537" y="9519"/>
                  <a:pt x="14560" y="9575"/>
                </a:cubicBezTo>
              </a:path>
              <a:path w="3152" h="646">
                <a:moveTo>
                  <a:pt x="15106" y="9178"/>
                </a:moveTo>
                <a:cubicBezTo>
                  <a:pt x="15016" y="9151"/>
                  <a:pt x="14975" y="9156"/>
                  <a:pt x="14883" y="9178"/>
                </a:cubicBezTo>
                <a:cubicBezTo>
                  <a:pt x="14912" y="9353"/>
                  <a:pt x="15083" y="9366"/>
                  <a:pt x="15156" y="9500"/>
                </a:cubicBezTo>
                <a:cubicBezTo>
                  <a:pt x="15156" y="9533"/>
                  <a:pt x="15156" y="9566"/>
                  <a:pt x="15156" y="9599"/>
                </a:cubicBezTo>
                <a:cubicBezTo>
                  <a:pt x="15045" y="9638"/>
                  <a:pt x="14767" y="9719"/>
                  <a:pt x="14883" y="9475"/>
                </a:cubicBezTo>
                <a:cubicBezTo>
                  <a:pt x="14913" y="9412"/>
                  <a:pt x="15164" y="9182"/>
                  <a:pt x="15131" y="9178"/>
                </a:cubicBezTo>
                <a:cubicBezTo>
                  <a:pt x="15063" y="9178"/>
                  <a:pt x="15035" y="9172"/>
                  <a:pt x="15081" y="9227"/>
                </a:cubicBezTo>
              </a:path>
              <a:path w="3152" h="646">
                <a:moveTo>
                  <a:pt x="15503" y="9500"/>
                </a:moveTo>
                <a:cubicBezTo>
                  <a:pt x="15503" y="9525"/>
                  <a:pt x="15503" y="9550"/>
                  <a:pt x="15503" y="9575"/>
                </a:cubicBezTo>
              </a:path>
              <a:path w="3152" h="646">
                <a:moveTo>
                  <a:pt x="15776" y="9128"/>
                </a:moveTo>
                <a:cubicBezTo>
                  <a:pt x="15852" y="9067"/>
                  <a:pt x="15990" y="9061"/>
                  <a:pt x="16098" y="9079"/>
                </a:cubicBezTo>
                <a:cubicBezTo>
                  <a:pt x="16043" y="9173"/>
                  <a:pt x="15994" y="9212"/>
                  <a:pt x="15900" y="9277"/>
                </a:cubicBezTo>
                <a:cubicBezTo>
                  <a:pt x="16012" y="9298"/>
                  <a:pt x="16256" y="9425"/>
                  <a:pt x="16024" y="9550"/>
                </a:cubicBezTo>
                <a:cubicBezTo>
                  <a:pt x="15858" y="9640"/>
                  <a:pt x="15794" y="9553"/>
                  <a:pt x="15776" y="9451"/>
                </a:cubicBezTo>
              </a:path>
              <a:path w="3152" h="646">
                <a:moveTo>
                  <a:pt x="16371" y="9103"/>
                </a:moveTo>
                <a:cubicBezTo>
                  <a:pt x="16515" y="9103"/>
                  <a:pt x="16694" y="9126"/>
                  <a:pt x="16694" y="9327"/>
                </a:cubicBezTo>
                <a:cubicBezTo>
                  <a:pt x="16694" y="9545"/>
                  <a:pt x="16478" y="9580"/>
                  <a:pt x="16346" y="9525"/>
                </a:cubicBezTo>
                <a:cubicBezTo>
                  <a:pt x="16432" y="9405"/>
                  <a:pt x="16565" y="9278"/>
                  <a:pt x="16644" y="9500"/>
                </a:cubicBezTo>
                <a:cubicBezTo>
                  <a:pt x="16667" y="9565"/>
                  <a:pt x="16630" y="9623"/>
                  <a:pt x="16594" y="9649"/>
                </a:cubicBezTo>
              </a:path>
              <a:path w="3152" h="646">
                <a:moveTo>
                  <a:pt x="15553" y="9575"/>
                </a:moveTo>
                <a:cubicBezTo>
                  <a:pt x="15561" y="9575"/>
                  <a:pt x="15569" y="9575"/>
                  <a:pt x="15577" y="9575"/>
                </a:cubicBezTo>
                <a:cubicBezTo>
                  <a:pt x="15555" y="9567"/>
                  <a:pt x="15531" y="9520"/>
                  <a:pt x="15503" y="9575"/>
                </a:cubicBezTo>
                <a:cubicBezTo>
                  <a:pt x="15471" y="9638"/>
                  <a:pt x="15459" y="9659"/>
                  <a:pt x="15503" y="9674"/>
                </a:cubicBezTo>
                <a:cubicBezTo>
                  <a:pt x="15520" y="9639"/>
                  <a:pt x="15551" y="9522"/>
                  <a:pt x="15453" y="9550"/>
                </a:cubicBezTo>
                <a:cubicBezTo>
                  <a:pt x="15426" y="9558"/>
                  <a:pt x="15472" y="9639"/>
                  <a:pt x="15478" y="9649"/>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6205680" y="3348000"/>
            <a:ext cx="81000" cy="1800"/>
          </a:xfrm>
          <a:custGeom>
            <a:avLst/>
            <a:gdLst/>
            <a:ahLst/>
            <a:rect l="l" t="t" r="r" b="b"/>
            <a:pathLst>
              <a:path w="224" h="1">
                <a:moveTo>
                  <a:pt x="17239" y="9302"/>
                </a:moveTo>
                <a:cubicBezTo>
                  <a:pt x="17313" y="9302"/>
                  <a:pt x="17388" y="9302"/>
                  <a:pt x="17462" y="9302"/>
                </a:cubicBezTo>
              </a:path>
            </a:pathLst>
          </a:custGeom>
          <a:noFill/>
          <a:ln cap="rnd" w="3492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 name=""/>
          <p:cNvSpPr/>
          <p:nvPr/>
        </p:nvSpPr>
        <p:spPr>
          <a:xfrm>
            <a:off x="6438960" y="3214800"/>
            <a:ext cx="160200" cy="241200"/>
          </a:xfrm>
          <a:custGeom>
            <a:avLst/>
            <a:gdLst/>
            <a:ahLst/>
            <a:rect l="l" t="t" r="r" b="b"/>
            <a:pathLst>
              <a:path w="448" h="670">
                <a:moveTo>
                  <a:pt x="18008" y="8930"/>
                </a:moveTo>
                <a:cubicBezTo>
                  <a:pt x="18030" y="9059"/>
                  <a:pt x="18023" y="9193"/>
                  <a:pt x="18008" y="9327"/>
                </a:cubicBezTo>
                <a:cubicBezTo>
                  <a:pt x="17992" y="9467"/>
                  <a:pt x="17959" y="9604"/>
                  <a:pt x="18157" y="9599"/>
                </a:cubicBezTo>
                <a:cubicBezTo>
                  <a:pt x="18256" y="9580"/>
                  <a:pt x="18272" y="9572"/>
                  <a:pt x="18331" y="9575"/>
                </a:cubicBezTo>
              </a:path>
              <a:path w="448" h="670">
                <a:moveTo>
                  <a:pt x="17884" y="9153"/>
                </a:moveTo>
                <a:cubicBezTo>
                  <a:pt x="18027" y="9171"/>
                  <a:pt x="18161" y="9178"/>
                  <a:pt x="18306" y="9178"/>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6858000" y="3125880"/>
            <a:ext cx="911160" cy="295200"/>
          </a:xfrm>
          <a:custGeom>
            <a:avLst/>
            <a:gdLst/>
            <a:ahLst/>
            <a:rect l="l" t="t" r="r" b="b"/>
            <a:pathLst>
              <a:path w="2531" h="819">
                <a:moveTo>
                  <a:pt x="19050" y="9153"/>
                </a:moveTo>
                <a:cubicBezTo>
                  <a:pt x="19109" y="9173"/>
                  <a:pt x="19205" y="9178"/>
                  <a:pt x="19298" y="9178"/>
                </a:cubicBezTo>
                <a:cubicBezTo>
                  <a:pt x="19306" y="9178"/>
                  <a:pt x="19315" y="9178"/>
                  <a:pt x="19323" y="9178"/>
                </a:cubicBezTo>
              </a:path>
              <a:path w="2531" h="819">
                <a:moveTo>
                  <a:pt x="19075" y="9351"/>
                </a:moveTo>
                <a:cubicBezTo>
                  <a:pt x="19158" y="9351"/>
                  <a:pt x="19240" y="9351"/>
                  <a:pt x="19323" y="9351"/>
                </a:cubicBezTo>
              </a:path>
              <a:path w="2531" h="819">
                <a:moveTo>
                  <a:pt x="20017" y="9004"/>
                </a:moveTo>
                <a:cubicBezTo>
                  <a:pt x="20042" y="9004"/>
                  <a:pt x="20050" y="9004"/>
                  <a:pt x="20042" y="9029"/>
                </a:cubicBezTo>
                <a:cubicBezTo>
                  <a:pt x="20021" y="9092"/>
                  <a:pt x="20034" y="9016"/>
                  <a:pt x="20042" y="9079"/>
                </a:cubicBezTo>
                <a:cubicBezTo>
                  <a:pt x="20054" y="9173"/>
                  <a:pt x="20223" y="9174"/>
                  <a:pt x="20290" y="9178"/>
                </a:cubicBezTo>
                <a:cubicBezTo>
                  <a:pt x="20375" y="9178"/>
                  <a:pt x="20395" y="9172"/>
                  <a:pt x="20439" y="9203"/>
                </a:cubicBezTo>
              </a:path>
              <a:path w="2531" h="819">
                <a:moveTo>
                  <a:pt x="20365" y="8905"/>
                </a:moveTo>
                <a:cubicBezTo>
                  <a:pt x="20374" y="9078"/>
                  <a:pt x="20443" y="9280"/>
                  <a:pt x="20414" y="9451"/>
                </a:cubicBezTo>
                <a:cubicBezTo>
                  <a:pt x="20406" y="9459"/>
                  <a:pt x="20397" y="9467"/>
                  <a:pt x="20389" y="9475"/>
                </a:cubicBezTo>
              </a:path>
              <a:path w="2531" h="819">
                <a:moveTo>
                  <a:pt x="20737" y="8979"/>
                </a:moveTo>
                <a:cubicBezTo>
                  <a:pt x="20811" y="8947"/>
                  <a:pt x="20974" y="8895"/>
                  <a:pt x="21010" y="9004"/>
                </a:cubicBezTo>
                <a:cubicBezTo>
                  <a:pt x="20982" y="9089"/>
                  <a:pt x="20964" y="9119"/>
                  <a:pt x="20886" y="9128"/>
                </a:cubicBezTo>
                <a:cubicBezTo>
                  <a:pt x="20892" y="9146"/>
                  <a:pt x="21111" y="9176"/>
                  <a:pt x="21010" y="9327"/>
                </a:cubicBezTo>
                <a:cubicBezTo>
                  <a:pt x="20907" y="9481"/>
                  <a:pt x="20707" y="9518"/>
                  <a:pt x="20737" y="9327"/>
                </a:cubicBezTo>
              </a:path>
              <a:path w="2531" h="819">
                <a:moveTo>
                  <a:pt x="21530" y="8930"/>
                </a:moveTo>
                <a:cubicBezTo>
                  <a:pt x="21347" y="8998"/>
                  <a:pt x="21234" y="9054"/>
                  <a:pt x="21406" y="9227"/>
                </a:cubicBezTo>
                <a:cubicBezTo>
                  <a:pt x="21512" y="9312"/>
                  <a:pt x="21540" y="9326"/>
                  <a:pt x="21580" y="9401"/>
                </a:cubicBezTo>
                <a:cubicBezTo>
                  <a:pt x="21495" y="9486"/>
                  <a:pt x="21455" y="9513"/>
                  <a:pt x="21357" y="9500"/>
                </a:cubicBezTo>
                <a:cubicBezTo>
                  <a:pt x="21302" y="9268"/>
                  <a:pt x="21444" y="9214"/>
                  <a:pt x="21555" y="9004"/>
                </a:cubicBezTo>
                <a:cubicBezTo>
                  <a:pt x="21643" y="8837"/>
                  <a:pt x="21435" y="9033"/>
                  <a:pt x="21406" y="9079"/>
                </a:cubicBezTo>
              </a:path>
              <a:path w="2531" h="819">
                <a:moveTo>
                  <a:pt x="19645" y="8682"/>
                </a:moveTo>
                <a:cubicBezTo>
                  <a:pt x="19556" y="8726"/>
                  <a:pt x="19533" y="8739"/>
                  <a:pt x="19472" y="8756"/>
                </a:cubicBezTo>
                <a:cubicBezTo>
                  <a:pt x="19496" y="8830"/>
                  <a:pt x="19656" y="8792"/>
                  <a:pt x="19720" y="8880"/>
                </a:cubicBezTo>
                <a:cubicBezTo>
                  <a:pt x="19733" y="8898"/>
                  <a:pt x="19547" y="9106"/>
                  <a:pt x="19472" y="8806"/>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7983360" y="3197160"/>
            <a:ext cx="393840" cy="196920"/>
          </a:xfrm>
          <a:custGeom>
            <a:avLst/>
            <a:gdLst/>
            <a:ahLst/>
            <a:rect l="l" t="t" r="r" b="b"/>
            <a:pathLst>
              <a:path w="1093" h="547">
                <a:moveTo>
                  <a:pt x="22175" y="8880"/>
                </a:moveTo>
                <a:cubicBezTo>
                  <a:pt x="22319" y="8908"/>
                  <a:pt x="22450" y="8930"/>
                  <a:pt x="22597" y="8930"/>
                </a:cubicBezTo>
                <a:cubicBezTo>
                  <a:pt x="22564" y="9079"/>
                  <a:pt x="22528" y="9210"/>
                  <a:pt x="22473" y="9351"/>
                </a:cubicBezTo>
              </a:path>
              <a:path w="1093" h="547">
                <a:moveTo>
                  <a:pt x="23217" y="8880"/>
                </a:moveTo>
                <a:cubicBezTo>
                  <a:pt x="23204" y="8882"/>
                  <a:pt x="22997" y="8900"/>
                  <a:pt x="22994" y="8905"/>
                </a:cubicBezTo>
                <a:cubicBezTo>
                  <a:pt x="22965" y="8953"/>
                  <a:pt x="22933" y="9022"/>
                  <a:pt x="22895" y="9079"/>
                </a:cubicBezTo>
                <a:cubicBezTo>
                  <a:pt x="22979" y="9098"/>
                  <a:pt x="23267" y="9117"/>
                  <a:pt x="23267" y="9252"/>
                </a:cubicBezTo>
                <a:cubicBezTo>
                  <a:pt x="23267" y="9503"/>
                  <a:pt x="22974" y="9410"/>
                  <a:pt x="22870" y="9351"/>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8035920" y="5062680"/>
            <a:ext cx="341280" cy="171360"/>
          </a:xfrm>
          <a:custGeom>
            <a:avLst/>
            <a:gdLst/>
            <a:ahLst/>
            <a:rect l="l" t="t" r="r" b="b"/>
            <a:pathLst>
              <a:path w="944" h="473">
                <a:moveTo>
                  <a:pt x="22349" y="14089"/>
                </a:moveTo>
                <a:cubicBezTo>
                  <a:pt x="22401" y="14158"/>
                  <a:pt x="22345" y="14212"/>
                  <a:pt x="22324" y="14288"/>
                </a:cubicBezTo>
                <a:cubicBezTo>
                  <a:pt x="22310" y="14338"/>
                  <a:pt x="22508" y="14291"/>
                  <a:pt x="22547" y="14288"/>
                </a:cubicBezTo>
              </a:path>
              <a:path w="944" h="473">
                <a:moveTo>
                  <a:pt x="22523" y="14089"/>
                </a:moveTo>
                <a:cubicBezTo>
                  <a:pt x="22523" y="14200"/>
                  <a:pt x="22516" y="14328"/>
                  <a:pt x="22498" y="14436"/>
                </a:cubicBezTo>
                <a:cubicBezTo>
                  <a:pt x="22489" y="14493"/>
                  <a:pt x="22438" y="14551"/>
                  <a:pt x="22498" y="14511"/>
                </a:cubicBezTo>
              </a:path>
              <a:path w="944" h="473">
                <a:moveTo>
                  <a:pt x="22671" y="14114"/>
                </a:moveTo>
                <a:cubicBezTo>
                  <a:pt x="22725" y="14101"/>
                  <a:pt x="22909" y="14043"/>
                  <a:pt x="22845" y="14188"/>
                </a:cubicBezTo>
                <a:cubicBezTo>
                  <a:pt x="22801" y="14233"/>
                  <a:pt x="22791" y="14250"/>
                  <a:pt x="22746" y="14238"/>
                </a:cubicBezTo>
                <a:cubicBezTo>
                  <a:pt x="22757" y="14205"/>
                  <a:pt x="22854" y="14178"/>
                  <a:pt x="22870" y="14238"/>
                </a:cubicBezTo>
                <a:cubicBezTo>
                  <a:pt x="22890" y="14315"/>
                  <a:pt x="22763" y="14578"/>
                  <a:pt x="22671" y="14461"/>
                </a:cubicBezTo>
                <a:cubicBezTo>
                  <a:pt x="22679" y="14445"/>
                  <a:pt x="22688" y="14428"/>
                  <a:pt x="22696" y="14412"/>
                </a:cubicBezTo>
              </a:path>
              <a:path w="944" h="473">
                <a:moveTo>
                  <a:pt x="23267" y="14064"/>
                </a:moveTo>
                <a:cubicBezTo>
                  <a:pt x="23164" y="14064"/>
                  <a:pt x="23149" y="14060"/>
                  <a:pt x="23068" y="14114"/>
                </a:cubicBezTo>
                <a:cubicBezTo>
                  <a:pt x="23069" y="14228"/>
                  <a:pt x="23267" y="14238"/>
                  <a:pt x="23267" y="14362"/>
                </a:cubicBezTo>
                <a:cubicBezTo>
                  <a:pt x="23267" y="14419"/>
                  <a:pt x="23099" y="14415"/>
                  <a:pt x="23068" y="14412"/>
                </a:cubicBezTo>
                <a:cubicBezTo>
                  <a:pt x="23101" y="14303"/>
                  <a:pt x="23248" y="14194"/>
                  <a:pt x="23168" y="14114"/>
                </a:cubicBezTo>
                <a:cubicBezTo>
                  <a:pt x="23160" y="14114"/>
                  <a:pt x="23151" y="14114"/>
                  <a:pt x="23143" y="14114"/>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510760" y="5010120"/>
            <a:ext cx="241200" cy="177840"/>
          </a:xfrm>
          <a:custGeom>
            <a:avLst/>
            <a:gdLst/>
            <a:ahLst/>
            <a:rect l="l" t="t" r="r" b="b"/>
            <a:pathLst>
              <a:path w="671" h="498">
                <a:moveTo>
                  <a:pt x="23639" y="14089"/>
                </a:moveTo>
                <a:cubicBezTo>
                  <a:pt x="23709" y="14089"/>
                  <a:pt x="23872" y="14043"/>
                  <a:pt x="23887" y="14139"/>
                </a:cubicBezTo>
                <a:cubicBezTo>
                  <a:pt x="23900" y="14225"/>
                  <a:pt x="23833" y="14383"/>
                  <a:pt x="23862" y="14412"/>
                </a:cubicBezTo>
              </a:path>
              <a:path w="671" h="498">
                <a:moveTo>
                  <a:pt x="24085" y="14015"/>
                </a:moveTo>
                <a:cubicBezTo>
                  <a:pt x="24075" y="14025"/>
                  <a:pt x="24023" y="14139"/>
                  <a:pt x="24085" y="14163"/>
                </a:cubicBezTo>
                <a:cubicBezTo>
                  <a:pt x="24120" y="14176"/>
                  <a:pt x="24197" y="14139"/>
                  <a:pt x="24185" y="14213"/>
                </a:cubicBezTo>
                <a:cubicBezTo>
                  <a:pt x="24174" y="14276"/>
                  <a:pt x="24073" y="14373"/>
                  <a:pt x="24085" y="14337"/>
                </a:cubicBezTo>
                <a:cubicBezTo>
                  <a:pt x="24093" y="14321"/>
                  <a:pt x="24102" y="14304"/>
                  <a:pt x="24110" y="14288"/>
                </a:cubicBezTo>
              </a:path>
              <a:path w="671" h="498">
                <a:moveTo>
                  <a:pt x="24110" y="14015"/>
                </a:moveTo>
                <a:cubicBezTo>
                  <a:pt x="24141" y="13998"/>
                  <a:pt x="24275" y="13888"/>
                  <a:pt x="24309" y="13915"/>
                </a:cubicBezTo>
                <a:cubicBezTo>
                  <a:pt x="24309" y="13923"/>
                  <a:pt x="24309" y="13932"/>
                  <a:pt x="24309" y="13940"/>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6946920" y="5170320"/>
            <a:ext cx="1527120" cy="544680"/>
          </a:xfrm>
          <a:custGeom>
            <a:avLst/>
            <a:gdLst/>
            <a:ahLst/>
            <a:rect l="l" t="t" r="r" b="b"/>
            <a:pathLst>
              <a:path w="4243" h="1514">
                <a:moveTo>
                  <a:pt x="23391" y="14362"/>
                </a:moveTo>
                <a:cubicBezTo>
                  <a:pt x="23391" y="14387"/>
                  <a:pt x="23391" y="14395"/>
                  <a:pt x="23416" y="14387"/>
                </a:cubicBezTo>
              </a:path>
              <a:path w="4243" h="1514">
                <a:moveTo>
                  <a:pt x="23440" y="14808"/>
                </a:moveTo>
                <a:cubicBezTo>
                  <a:pt x="23416" y="14808"/>
                  <a:pt x="23408" y="14808"/>
                  <a:pt x="23416" y="14833"/>
                </a:cubicBezTo>
              </a:path>
              <a:path w="4243" h="1514">
                <a:moveTo>
                  <a:pt x="23515" y="15503"/>
                </a:moveTo>
                <a:cubicBezTo>
                  <a:pt x="23523" y="15503"/>
                  <a:pt x="23532" y="15503"/>
                  <a:pt x="23540" y="15503"/>
                </a:cubicBezTo>
              </a:path>
              <a:path w="4243" h="1514">
                <a:moveTo>
                  <a:pt x="22250" y="15354"/>
                </a:moveTo>
                <a:cubicBezTo>
                  <a:pt x="22226" y="15494"/>
                  <a:pt x="22213" y="15634"/>
                  <a:pt x="22200" y="15776"/>
                </a:cubicBezTo>
              </a:path>
              <a:path w="4243" h="1514">
                <a:moveTo>
                  <a:pt x="19348" y="15379"/>
                </a:moveTo>
                <a:cubicBezTo>
                  <a:pt x="19328" y="15545"/>
                  <a:pt x="19311" y="15710"/>
                  <a:pt x="19298" y="15875"/>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804080" y="5268960"/>
            <a:ext cx="117720" cy="71280"/>
          </a:xfrm>
          <a:custGeom>
            <a:avLst/>
            <a:gdLst/>
            <a:ahLst/>
            <a:rect l="l" t="t" r="r" b="b"/>
            <a:pathLst>
              <a:path w="324" h="199">
                <a:moveTo>
                  <a:pt x="21853" y="14635"/>
                </a:moveTo>
                <a:cubicBezTo>
                  <a:pt x="21853" y="14701"/>
                  <a:pt x="21853" y="14767"/>
                  <a:pt x="21853" y="14833"/>
                </a:cubicBezTo>
              </a:path>
              <a:path w="324" h="199">
                <a:moveTo>
                  <a:pt x="21704" y="14759"/>
                </a:moveTo>
                <a:cubicBezTo>
                  <a:pt x="21630" y="14759"/>
                  <a:pt x="21826" y="14759"/>
                  <a:pt x="21828" y="14759"/>
                </a:cubicBezTo>
                <a:cubicBezTo>
                  <a:pt x="21886" y="14759"/>
                  <a:pt x="21944" y="14759"/>
                  <a:pt x="22002" y="14759"/>
                </a:cubicBezTo>
              </a:path>
            </a:pathLst>
          </a:custGeom>
          <a:noFill/>
          <a:ln cap="rnd" w="3492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 name=""/>
          <p:cNvSpPr/>
          <p:nvPr/>
        </p:nvSpPr>
        <p:spPr>
          <a:xfrm>
            <a:off x="6912000" y="5510160"/>
            <a:ext cx="741240" cy="249120"/>
          </a:xfrm>
          <a:custGeom>
            <a:avLst/>
            <a:gdLst/>
            <a:ahLst/>
            <a:rect l="l" t="t" r="r" b="b"/>
            <a:pathLst>
              <a:path w="2060" h="696">
                <a:moveTo>
                  <a:pt x="19571" y="15404"/>
                </a:moveTo>
                <a:cubicBezTo>
                  <a:pt x="19515" y="15274"/>
                  <a:pt x="19373" y="15338"/>
                  <a:pt x="19273" y="15429"/>
                </a:cubicBezTo>
                <a:cubicBezTo>
                  <a:pt x="19265" y="15445"/>
                  <a:pt x="19256" y="15462"/>
                  <a:pt x="19248" y="15478"/>
                </a:cubicBezTo>
                <a:cubicBezTo>
                  <a:pt x="19281" y="15543"/>
                  <a:pt x="19465" y="15508"/>
                  <a:pt x="19422" y="15627"/>
                </a:cubicBezTo>
                <a:cubicBezTo>
                  <a:pt x="19352" y="15820"/>
                  <a:pt x="19261" y="15785"/>
                  <a:pt x="19199" y="15652"/>
                </a:cubicBezTo>
              </a:path>
              <a:path w="2060" h="696">
                <a:moveTo>
                  <a:pt x="19546" y="15528"/>
                </a:moveTo>
                <a:cubicBezTo>
                  <a:pt x="19531" y="15603"/>
                  <a:pt x="19521" y="15670"/>
                  <a:pt x="19521" y="15751"/>
                </a:cubicBezTo>
                <a:cubicBezTo>
                  <a:pt x="19622" y="15742"/>
                  <a:pt x="19681" y="15721"/>
                  <a:pt x="19769" y="15677"/>
                </a:cubicBezTo>
              </a:path>
              <a:path w="2060" h="696">
                <a:moveTo>
                  <a:pt x="19769" y="15478"/>
                </a:moveTo>
                <a:cubicBezTo>
                  <a:pt x="19754" y="15637"/>
                  <a:pt x="19773" y="15859"/>
                  <a:pt x="19720" y="15999"/>
                </a:cubicBezTo>
              </a:path>
              <a:path w="2060" h="696">
                <a:moveTo>
                  <a:pt x="19869" y="15503"/>
                </a:moveTo>
                <a:cubicBezTo>
                  <a:pt x="19931" y="15503"/>
                  <a:pt x="20038" y="15449"/>
                  <a:pt x="20092" y="15478"/>
                </a:cubicBezTo>
                <a:cubicBezTo>
                  <a:pt x="20168" y="15518"/>
                  <a:pt x="20057" y="15810"/>
                  <a:pt x="20042" y="15875"/>
                </a:cubicBezTo>
              </a:path>
              <a:path w="2060" h="696">
                <a:moveTo>
                  <a:pt x="20340" y="15453"/>
                </a:moveTo>
                <a:cubicBezTo>
                  <a:pt x="20235" y="15498"/>
                  <a:pt x="20113" y="15559"/>
                  <a:pt x="20241" y="15677"/>
                </a:cubicBezTo>
                <a:cubicBezTo>
                  <a:pt x="20386" y="15810"/>
                  <a:pt x="20390" y="15839"/>
                  <a:pt x="20241" y="15974"/>
                </a:cubicBezTo>
                <a:cubicBezTo>
                  <a:pt x="20216" y="15798"/>
                  <a:pt x="20303" y="15721"/>
                  <a:pt x="20340" y="15553"/>
                </a:cubicBezTo>
                <a:cubicBezTo>
                  <a:pt x="20340" y="15536"/>
                  <a:pt x="20340" y="15520"/>
                  <a:pt x="20340" y="15503"/>
                </a:cubicBezTo>
              </a:path>
              <a:path w="2060" h="696">
                <a:moveTo>
                  <a:pt x="20538" y="15900"/>
                </a:moveTo>
                <a:cubicBezTo>
                  <a:pt x="20538" y="15941"/>
                  <a:pt x="20538" y="15965"/>
                  <a:pt x="20538" y="15925"/>
                </a:cubicBezTo>
              </a:path>
              <a:path w="2060" h="696">
                <a:moveTo>
                  <a:pt x="20638" y="15478"/>
                </a:moveTo>
                <a:cubicBezTo>
                  <a:pt x="20706" y="15478"/>
                  <a:pt x="20816" y="15442"/>
                  <a:pt x="20836" y="15528"/>
                </a:cubicBezTo>
                <a:cubicBezTo>
                  <a:pt x="20850" y="15591"/>
                  <a:pt x="20836" y="15684"/>
                  <a:pt x="20836" y="15751"/>
                </a:cubicBezTo>
              </a:path>
              <a:path w="2060" h="696">
                <a:moveTo>
                  <a:pt x="21010" y="15453"/>
                </a:moveTo>
                <a:cubicBezTo>
                  <a:pt x="20987" y="15476"/>
                  <a:pt x="20979" y="15480"/>
                  <a:pt x="20985" y="15503"/>
                </a:cubicBezTo>
                <a:cubicBezTo>
                  <a:pt x="21105" y="15537"/>
                  <a:pt x="21166" y="15559"/>
                  <a:pt x="21183" y="15677"/>
                </a:cubicBezTo>
                <a:cubicBezTo>
                  <a:pt x="21201" y="15804"/>
                  <a:pt x="21111" y="15749"/>
                  <a:pt x="21059" y="15726"/>
                </a:cubicBezTo>
              </a:path>
              <a:path w="2060" h="696">
                <a:moveTo>
                  <a:pt x="21010" y="15379"/>
                </a:moveTo>
                <a:cubicBezTo>
                  <a:pt x="21093" y="15353"/>
                  <a:pt x="21175" y="15330"/>
                  <a:pt x="21258" y="15304"/>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947000" y="5537160"/>
            <a:ext cx="54000" cy="79560"/>
          </a:xfrm>
          <a:custGeom>
            <a:avLst/>
            <a:gdLst/>
            <a:ahLst/>
            <a:rect l="l" t="t" r="r" b="b"/>
            <a:pathLst>
              <a:path w="150" h="224">
                <a:moveTo>
                  <a:pt x="22126" y="15404"/>
                </a:moveTo>
                <a:cubicBezTo>
                  <a:pt x="22126" y="15379"/>
                  <a:pt x="22126" y="15371"/>
                  <a:pt x="22151" y="15379"/>
                </a:cubicBezTo>
                <a:cubicBezTo>
                  <a:pt x="22139" y="15414"/>
                  <a:pt x="22121" y="15473"/>
                  <a:pt x="22101" y="15528"/>
                </a:cubicBezTo>
                <a:cubicBezTo>
                  <a:pt x="22081" y="15568"/>
                  <a:pt x="22072" y="15574"/>
                  <a:pt x="22076" y="15602"/>
                </a:cubicBezTo>
                <a:cubicBezTo>
                  <a:pt x="22140" y="15583"/>
                  <a:pt x="22164" y="15577"/>
                  <a:pt x="22225" y="15577"/>
                </a:cubicBezTo>
              </a:path>
            </a:pathLst>
          </a:custGeom>
          <a:noFill/>
          <a:ln cap="rnd" w="3492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8" name=""/>
          <p:cNvSpPr/>
          <p:nvPr/>
        </p:nvSpPr>
        <p:spPr>
          <a:xfrm>
            <a:off x="8089920" y="5545080"/>
            <a:ext cx="63360" cy="108000"/>
          </a:xfrm>
          <a:custGeom>
            <a:avLst/>
            <a:gdLst/>
            <a:ahLst/>
            <a:rect l="l" t="t" r="r" b="b"/>
            <a:pathLst>
              <a:path w="175" h="298">
                <a:moveTo>
                  <a:pt x="22473" y="15429"/>
                </a:moveTo>
                <a:cubicBezTo>
                  <a:pt x="22482" y="15410"/>
                  <a:pt x="22560" y="15429"/>
                  <a:pt x="22622" y="15429"/>
                </a:cubicBezTo>
                <a:cubicBezTo>
                  <a:pt x="22630" y="15429"/>
                  <a:pt x="22639" y="15429"/>
                  <a:pt x="22647" y="15429"/>
                </a:cubicBezTo>
                <a:cubicBezTo>
                  <a:pt x="22647" y="15520"/>
                  <a:pt x="22647" y="15610"/>
                  <a:pt x="22647" y="15701"/>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8304120" y="5491080"/>
            <a:ext cx="63720" cy="135000"/>
          </a:xfrm>
          <a:custGeom>
            <a:avLst/>
            <a:gdLst/>
            <a:ahLst/>
            <a:rect l="l" t="t" r="r" b="b"/>
            <a:pathLst>
              <a:path w="175" h="373">
                <a:moveTo>
                  <a:pt x="23217" y="15280"/>
                </a:moveTo>
                <a:cubicBezTo>
                  <a:pt x="23203" y="15237"/>
                  <a:pt x="23162" y="15251"/>
                  <a:pt x="23118" y="15280"/>
                </a:cubicBezTo>
                <a:cubicBezTo>
                  <a:pt x="23092" y="15297"/>
                  <a:pt x="23043" y="15370"/>
                  <a:pt x="23068" y="15404"/>
                </a:cubicBezTo>
                <a:cubicBezTo>
                  <a:pt x="23110" y="15462"/>
                  <a:pt x="23163" y="15475"/>
                  <a:pt x="23168" y="15553"/>
                </a:cubicBezTo>
                <a:cubicBezTo>
                  <a:pt x="23172" y="15617"/>
                  <a:pt x="23151" y="15602"/>
                  <a:pt x="23093" y="15627"/>
                </a:cubicBezTo>
                <a:cubicBezTo>
                  <a:pt x="23058" y="15557"/>
                  <a:pt x="23068" y="15518"/>
                  <a:pt x="23118" y="15453"/>
                </a:cubicBezTo>
                <a:cubicBezTo>
                  <a:pt x="23155" y="15404"/>
                  <a:pt x="23275" y="15391"/>
                  <a:pt x="23242" y="15304"/>
                </a:cubicBezTo>
                <a:cubicBezTo>
                  <a:pt x="23217" y="15304"/>
                  <a:pt x="23209" y="15304"/>
                  <a:pt x="23192" y="15304"/>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72680" y="5456160"/>
            <a:ext cx="206280" cy="142920"/>
          </a:xfrm>
          <a:custGeom>
            <a:avLst/>
            <a:gdLst/>
            <a:ahLst/>
            <a:rect l="l" t="t" r="r" b="b"/>
            <a:pathLst>
              <a:path w="572" h="398">
                <a:moveTo>
                  <a:pt x="24383" y="15156"/>
                </a:moveTo>
                <a:cubicBezTo>
                  <a:pt x="24316" y="15156"/>
                  <a:pt x="24264" y="15162"/>
                  <a:pt x="24209" y="15180"/>
                </a:cubicBezTo>
                <a:cubicBezTo>
                  <a:pt x="24175" y="15191"/>
                  <a:pt x="24164" y="15259"/>
                  <a:pt x="24160" y="15304"/>
                </a:cubicBezTo>
                <a:cubicBezTo>
                  <a:pt x="24155" y="15364"/>
                  <a:pt x="24119" y="15293"/>
                  <a:pt x="24160" y="15354"/>
                </a:cubicBezTo>
                <a:cubicBezTo>
                  <a:pt x="24204" y="15331"/>
                  <a:pt x="24314" y="15257"/>
                  <a:pt x="24358" y="15329"/>
                </a:cubicBezTo>
                <a:cubicBezTo>
                  <a:pt x="24419" y="15430"/>
                  <a:pt x="24245" y="15491"/>
                  <a:pt x="24185" y="15503"/>
                </a:cubicBezTo>
                <a:cubicBezTo>
                  <a:pt x="24123" y="15503"/>
                  <a:pt x="24108" y="15512"/>
                  <a:pt x="24085" y="15478"/>
                </a:cubicBezTo>
              </a:path>
              <a:path w="572" h="398">
                <a:moveTo>
                  <a:pt x="23986" y="15230"/>
                </a:moveTo>
                <a:cubicBezTo>
                  <a:pt x="24019" y="15213"/>
                  <a:pt x="24133" y="15180"/>
                  <a:pt x="24061" y="15156"/>
                </a:cubicBezTo>
                <a:cubicBezTo>
                  <a:pt x="23972" y="15243"/>
                  <a:pt x="23967" y="15324"/>
                  <a:pt x="23986" y="15453"/>
                </a:cubicBezTo>
                <a:cubicBezTo>
                  <a:pt x="23996" y="15523"/>
                  <a:pt x="24008" y="15540"/>
                  <a:pt x="24061" y="15553"/>
                </a:cubicBezTo>
              </a:path>
              <a:path w="572" h="398">
                <a:moveTo>
                  <a:pt x="23812" y="15180"/>
                </a:moveTo>
                <a:cubicBezTo>
                  <a:pt x="23884" y="15159"/>
                  <a:pt x="23893" y="15156"/>
                  <a:pt x="23961" y="15156"/>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062920" y="5205240"/>
            <a:ext cx="696960" cy="243000"/>
          </a:xfrm>
          <a:custGeom>
            <a:avLst/>
            <a:gdLst/>
            <a:ahLst/>
            <a:rect l="l" t="t" r="r" b="b"/>
            <a:pathLst>
              <a:path w="1935" h="671">
                <a:moveTo>
                  <a:pt x="22647" y="14585"/>
                </a:moveTo>
                <a:cubicBezTo>
                  <a:pt x="22634" y="14648"/>
                  <a:pt x="22603" y="14698"/>
                  <a:pt x="22572" y="14759"/>
                </a:cubicBezTo>
                <a:cubicBezTo>
                  <a:pt x="22643" y="14759"/>
                  <a:pt x="22701" y="14739"/>
                  <a:pt x="22771" y="14734"/>
                </a:cubicBezTo>
                <a:cubicBezTo>
                  <a:pt x="22779" y="14734"/>
                  <a:pt x="22788" y="14734"/>
                  <a:pt x="22796" y="14734"/>
                </a:cubicBezTo>
              </a:path>
              <a:path w="1935" h="671">
                <a:moveTo>
                  <a:pt x="22771" y="14560"/>
                </a:moveTo>
                <a:cubicBezTo>
                  <a:pt x="22771" y="14676"/>
                  <a:pt x="22771" y="14792"/>
                  <a:pt x="22771" y="14908"/>
                </a:cubicBezTo>
              </a:path>
              <a:path w="1935" h="671">
                <a:moveTo>
                  <a:pt x="23044" y="14660"/>
                </a:moveTo>
                <a:cubicBezTo>
                  <a:pt x="22943" y="14660"/>
                  <a:pt x="22951" y="14752"/>
                  <a:pt x="22944" y="14833"/>
                </a:cubicBezTo>
                <a:cubicBezTo>
                  <a:pt x="22944" y="14878"/>
                  <a:pt x="22941" y="14891"/>
                  <a:pt x="22969" y="14908"/>
                </a:cubicBezTo>
                <a:cubicBezTo>
                  <a:pt x="23068" y="14896"/>
                  <a:pt x="23134" y="14851"/>
                  <a:pt x="23118" y="14734"/>
                </a:cubicBezTo>
                <a:cubicBezTo>
                  <a:pt x="23115" y="14711"/>
                  <a:pt x="23074" y="14637"/>
                  <a:pt x="23068" y="14635"/>
                </a:cubicBezTo>
                <a:cubicBezTo>
                  <a:pt x="23027" y="14635"/>
                  <a:pt x="23003" y="14635"/>
                  <a:pt x="23044" y="14635"/>
                </a:cubicBezTo>
              </a:path>
              <a:path w="1935" h="671">
                <a:moveTo>
                  <a:pt x="23837" y="14536"/>
                </a:moveTo>
                <a:cubicBezTo>
                  <a:pt x="23805" y="14439"/>
                  <a:pt x="23716" y="14687"/>
                  <a:pt x="23713" y="14709"/>
                </a:cubicBezTo>
                <a:cubicBezTo>
                  <a:pt x="23702" y="14809"/>
                  <a:pt x="23836" y="14852"/>
                  <a:pt x="23887" y="14759"/>
                </a:cubicBezTo>
                <a:cubicBezTo>
                  <a:pt x="23948" y="14647"/>
                  <a:pt x="23916" y="14598"/>
                  <a:pt x="23837" y="14536"/>
                </a:cubicBezTo>
              </a:path>
              <a:path w="1935" h="671">
                <a:moveTo>
                  <a:pt x="24061" y="14461"/>
                </a:moveTo>
                <a:cubicBezTo>
                  <a:pt x="23972" y="14461"/>
                  <a:pt x="24005" y="14559"/>
                  <a:pt x="24036" y="14635"/>
                </a:cubicBezTo>
                <a:cubicBezTo>
                  <a:pt x="24056" y="14685"/>
                  <a:pt x="24097" y="14740"/>
                  <a:pt x="24135" y="14759"/>
                </a:cubicBezTo>
                <a:cubicBezTo>
                  <a:pt x="24209" y="14654"/>
                  <a:pt x="24249" y="14583"/>
                  <a:pt x="24110" y="14511"/>
                </a:cubicBezTo>
                <a:cubicBezTo>
                  <a:pt x="24085" y="14503"/>
                  <a:pt x="24061" y="14494"/>
                  <a:pt x="24036" y="14486"/>
                </a:cubicBezTo>
              </a:path>
              <a:path w="1935" h="671">
                <a:moveTo>
                  <a:pt x="22399" y="15131"/>
                </a:moveTo>
                <a:cubicBezTo>
                  <a:pt x="22459" y="15080"/>
                  <a:pt x="22503" y="15049"/>
                  <a:pt x="22622" y="15056"/>
                </a:cubicBezTo>
                <a:cubicBezTo>
                  <a:pt x="22870" y="15072"/>
                  <a:pt x="23091" y="15081"/>
                  <a:pt x="23341" y="15056"/>
                </a:cubicBezTo>
                <a:cubicBezTo>
                  <a:pt x="23558" y="15034"/>
                  <a:pt x="23769" y="15032"/>
                  <a:pt x="23986" y="15032"/>
                </a:cubicBezTo>
                <a:cubicBezTo>
                  <a:pt x="24086" y="15032"/>
                  <a:pt x="24145" y="15000"/>
                  <a:pt x="24234" y="14982"/>
                </a:cubicBezTo>
                <a:cubicBezTo>
                  <a:pt x="24264" y="14976"/>
                  <a:pt x="24302" y="14982"/>
                  <a:pt x="24333" y="14982"/>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295960" y="6180120"/>
            <a:ext cx="2955960" cy="258840"/>
          </a:xfrm>
          <a:custGeom>
            <a:avLst/>
            <a:gdLst/>
            <a:ahLst/>
            <a:rect l="l" t="t" r="r" b="b"/>
            <a:pathLst>
              <a:path w="8212" h="720">
                <a:moveTo>
                  <a:pt x="16743" y="17760"/>
                </a:moveTo>
                <a:cubicBezTo>
                  <a:pt x="16743" y="17768"/>
                  <a:pt x="16743" y="17777"/>
                  <a:pt x="16743" y="17785"/>
                </a:cubicBezTo>
              </a:path>
              <a:path w="8212" h="720">
                <a:moveTo>
                  <a:pt x="18604" y="17487"/>
                </a:moveTo>
                <a:cubicBezTo>
                  <a:pt x="18619" y="17605"/>
                  <a:pt x="18642" y="17680"/>
                  <a:pt x="18604" y="17785"/>
                </a:cubicBezTo>
              </a:path>
              <a:path w="8212" h="720">
                <a:moveTo>
                  <a:pt x="18504" y="17562"/>
                </a:moveTo>
                <a:cubicBezTo>
                  <a:pt x="18694" y="17538"/>
                  <a:pt x="18751" y="17530"/>
                  <a:pt x="18876" y="17537"/>
                </a:cubicBezTo>
              </a:path>
              <a:path w="8212" h="720">
                <a:moveTo>
                  <a:pt x="19546" y="17611"/>
                </a:moveTo>
                <a:cubicBezTo>
                  <a:pt x="19621" y="17514"/>
                  <a:pt x="19775" y="17551"/>
                  <a:pt x="19893" y="17562"/>
                </a:cubicBezTo>
              </a:path>
              <a:path w="8212" h="720">
                <a:moveTo>
                  <a:pt x="19695" y="17711"/>
                </a:moveTo>
                <a:cubicBezTo>
                  <a:pt x="19753" y="17711"/>
                  <a:pt x="19811" y="17711"/>
                  <a:pt x="19869" y="17711"/>
                </a:cubicBezTo>
              </a:path>
              <a:path w="8212" h="720">
                <a:moveTo>
                  <a:pt x="19869" y="17711"/>
                </a:moveTo>
                <a:lnTo>
                  <a:pt x="19869" y="17711"/>
                </a:lnTo>
              </a:path>
              <a:path w="8212" h="720">
                <a:moveTo>
                  <a:pt x="21779" y="17859"/>
                </a:moveTo>
                <a:cubicBezTo>
                  <a:pt x="21795" y="17867"/>
                  <a:pt x="21812" y="17876"/>
                  <a:pt x="21828" y="17884"/>
                </a:cubicBezTo>
              </a:path>
              <a:path w="8212" h="720">
                <a:moveTo>
                  <a:pt x="21828" y="17884"/>
                </a:moveTo>
                <a:lnTo>
                  <a:pt x="21828" y="17884"/>
                </a:lnTo>
              </a:path>
              <a:path w="8212" h="720">
                <a:moveTo>
                  <a:pt x="22920" y="17338"/>
                </a:moveTo>
                <a:lnTo>
                  <a:pt x="22920" y="17338"/>
                </a:lnTo>
              </a:path>
              <a:path w="8212" h="720">
                <a:moveTo>
                  <a:pt x="19819" y="17239"/>
                </a:moveTo>
                <a:cubicBezTo>
                  <a:pt x="19830" y="17356"/>
                  <a:pt x="19827" y="17551"/>
                  <a:pt x="19794" y="17587"/>
                </a:cubicBezTo>
              </a:path>
              <a:path w="8212" h="720">
                <a:moveTo>
                  <a:pt x="14709" y="17165"/>
                </a:moveTo>
                <a:cubicBezTo>
                  <a:pt x="14732" y="17280"/>
                  <a:pt x="14762" y="17378"/>
                  <a:pt x="14784" y="17487"/>
                </a:cubicBezTo>
              </a:path>
              <a:path w="8212" h="720">
                <a:moveTo>
                  <a:pt x="14784" y="17487"/>
                </a:moveTo>
                <a:lnTo>
                  <a:pt x="14784" y="17487"/>
                </a:ln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241960" y="6143760"/>
            <a:ext cx="108000" cy="115920"/>
          </a:xfrm>
          <a:custGeom>
            <a:avLst/>
            <a:gdLst/>
            <a:ahLst/>
            <a:rect l="l" t="t" r="r" b="b"/>
            <a:pathLst>
              <a:path w="299" h="323">
                <a:moveTo>
                  <a:pt x="14808" y="17066"/>
                </a:moveTo>
                <a:cubicBezTo>
                  <a:pt x="14782" y="17077"/>
                  <a:pt x="14515" y="17182"/>
                  <a:pt x="14585" y="17214"/>
                </a:cubicBezTo>
                <a:cubicBezTo>
                  <a:pt x="14677" y="17257"/>
                  <a:pt x="14773" y="17286"/>
                  <a:pt x="14858" y="17338"/>
                </a:cubicBezTo>
                <a:cubicBezTo>
                  <a:pt x="14727" y="17373"/>
                  <a:pt x="14679" y="17378"/>
                  <a:pt x="14560" y="17338"/>
                </a:cubicBezTo>
                <a:cubicBezTo>
                  <a:pt x="14590" y="17221"/>
                  <a:pt x="14610" y="17173"/>
                  <a:pt x="14684" y="17115"/>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510160" y="6215040"/>
            <a:ext cx="463680" cy="214200"/>
          </a:xfrm>
          <a:custGeom>
            <a:avLst/>
            <a:gdLst/>
            <a:ahLst/>
            <a:rect l="l" t="t" r="r" b="b"/>
            <a:pathLst>
              <a:path w="1291" h="596">
                <a:moveTo>
                  <a:pt x="15329" y="17338"/>
                </a:moveTo>
                <a:cubicBezTo>
                  <a:pt x="15443" y="17338"/>
                  <a:pt x="15350" y="17540"/>
                  <a:pt x="15329" y="17611"/>
                </a:cubicBezTo>
                <a:cubicBezTo>
                  <a:pt x="15321" y="17628"/>
                  <a:pt x="15312" y="17644"/>
                  <a:pt x="15304" y="17661"/>
                </a:cubicBezTo>
                <a:cubicBezTo>
                  <a:pt x="15420" y="17653"/>
                  <a:pt x="15571" y="17658"/>
                  <a:pt x="15652" y="17562"/>
                </a:cubicBezTo>
                <a:cubicBezTo>
                  <a:pt x="15652" y="17554"/>
                  <a:pt x="15652" y="17545"/>
                  <a:pt x="15652" y="17537"/>
                </a:cubicBezTo>
              </a:path>
              <a:path w="1291" h="596">
                <a:moveTo>
                  <a:pt x="15553" y="17264"/>
                </a:moveTo>
                <a:cubicBezTo>
                  <a:pt x="15576" y="17446"/>
                  <a:pt x="15454" y="17917"/>
                  <a:pt x="15602" y="17810"/>
                </a:cubicBezTo>
                <a:cubicBezTo>
                  <a:pt x="15627" y="17777"/>
                  <a:pt x="15652" y="17744"/>
                  <a:pt x="15677" y="17711"/>
                </a:cubicBezTo>
              </a:path>
              <a:path w="1291" h="596">
                <a:moveTo>
                  <a:pt x="15925" y="17338"/>
                </a:moveTo>
                <a:cubicBezTo>
                  <a:pt x="15979" y="17316"/>
                  <a:pt x="16113" y="17197"/>
                  <a:pt x="16173" y="17289"/>
                </a:cubicBezTo>
                <a:cubicBezTo>
                  <a:pt x="16234" y="17383"/>
                  <a:pt x="16075" y="17469"/>
                  <a:pt x="16024" y="17512"/>
                </a:cubicBezTo>
                <a:cubicBezTo>
                  <a:pt x="16120" y="17493"/>
                  <a:pt x="16259" y="17450"/>
                  <a:pt x="16297" y="17587"/>
                </a:cubicBezTo>
                <a:cubicBezTo>
                  <a:pt x="16333" y="17717"/>
                  <a:pt x="15998" y="17817"/>
                  <a:pt x="15925" y="17735"/>
                </a:cubicBezTo>
                <a:cubicBezTo>
                  <a:pt x="15925" y="17710"/>
                  <a:pt x="15925" y="17686"/>
                  <a:pt x="15925" y="17661"/>
                </a:cubicBezTo>
              </a:path>
              <a:path w="1291" h="596">
                <a:moveTo>
                  <a:pt x="16545" y="17314"/>
                </a:moveTo>
                <a:cubicBezTo>
                  <a:pt x="16429" y="17390"/>
                  <a:pt x="16366" y="17433"/>
                  <a:pt x="16446" y="17562"/>
                </a:cubicBezTo>
                <a:cubicBezTo>
                  <a:pt x="16498" y="17645"/>
                  <a:pt x="16671" y="17801"/>
                  <a:pt x="16495" y="17859"/>
                </a:cubicBezTo>
                <a:cubicBezTo>
                  <a:pt x="16409" y="17859"/>
                  <a:pt x="16373" y="17854"/>
                  <a:pt x="16321" y="17810"/>
                </a:cubicBezTo>
                <a:cubicBezTo>
                  <a:pt x="16386" y="17643"/>
                  <a:pt x="16538" y="17504"/>
                  <a:pt x="16594" y="17338"/>
                </a:cubicBezTo>
                <a:cubicBezTo>
                  <a:pt x="16609" y="17292"/>
                  <a:pt x="16498" y="17345"/>
                  <a:pt x="16520" y="17388"/>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134040" y="6249960"/>
            <a:ext cx="430200" cy="171360"/>
          </a:xfrm>
          <a:custGeom>
            <a:avLst/>
            <a:gdLst/>
            <a:ahLst/>
            <a:rect l="l" t="t" r="r" b="b"/>
            <a:pathLst>
              <a:path w="1191" h="473">
                <a:moveTo>
                  <a:pt x="17041" y="17388"/>
                </a:moveTo>
                <a:cubicBezTo>
                  <a:pt x="17141" y="17379"/>
                  <a:pt x="17237" y="17368"/>
                  <a:pt x="17338" y="17363"/>
                </a:cubicBezTo>
                <a:cubicBezTo>
                  <a:pt x="17392" y="17505"/>
                  <a:pt x="17315" y="17612"/>
                  <a:pt x="17289" y="17760"/>
                </a:cubicBezTo>
                <a:cubicBezTo>
                  <a:pt x="17289" y="17810"/>
                  <a:pt x="17289" y="17827"/>
                  <a:pt x="17289" y="17760"/>
                </a:cubicBezTo>
              </a:path>
              <a:path w="1191" h="473">
                <a:moveTo>
                  <a:pt x="17636" y="17413"/>
                </a:moveTo>
                <a:cubicBezTo>
                  <a:pt x="17573" y="17476"/>
                  <a:pt x="17563" y="17493"/>
                  <a:pt x="17512" y="17512"/>
                </a:cubicBezTo>
                <a:cubicBezTo>
                  <a:pt x="17598" y="17598"/>
                  <a:pt x="17686" y="17617"/>
                  <a:pt x="17735" y="17735"/>
                </a:cubicBezTo>
                <a:cubicBezTo>
                  <a:pt x="17735" y="17752"/>
                  <a:pt x="17735" y="17768"/>
                  <a:pt x="17735" y="17785"/>
                </a:cubicBezTo>
                <a:cubicBezTo>
                  <a:pt x="17500" y="17859"/>
                  <a:pt x="17491" y="17791"/>
                  <a:pt x="17462" y="17562"/>
                </a:cubicBezTo>
              </a:path>
              <a:path w="1191" h="473">
                <a:moveTo>
                  <a:pt x="17661" y="17413"/>
                </a:moveTo>
                <a:cubicBezTo>
                  <a:pt x="17852" y="17405"/>
                  <a:pt x="18040" y="17384"/>
                  <a:pt x="18231" y="17363"/>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715080" y="6296040"/>
            <a:ext cx="187200" cy="258840"/>
          </a:xfrm>
          <a:custGeom>
            <a:avLst/>
            <a:gdLst/>
            <a:ahLst/>
            <a:rect l="l" t="t" r="r" b="b"/>
            <a:pathLst>
              <a:path w="522" h="721">
                <a:moveTo>
                  <a:pt x="19149" y="17512"/>
                </a:moveTo>
                <a:cubicBezTo>
                  <a:pt x="19116" y="17512"/>
                  <a:pt x="18791" y="17598"/>
                  <a:pt x="18852" y="17735"/>
                </a:cubicBezTo>
                <a:cubicBezTo>
                  <a:pt x="18913" y="17873"/>
                  <a:pt x="19118" y="17633"/>
                  <a:pt x="19149" y="17587"/>
                </a:cubicBezTo>
                <a:cubicBezTo>
                  <a:pt x="19162" y="17729"/>
                  <a:pt x="19236" y="17959"/>
                  <a:pt x="19124" y="18083"/>
                </a:cubicBezTo>
                <a:cubicBezTo>
                  <a:pt x="18968" y="18254"/>
                  <a:pt x="18813" y="18197"/>
                  <a:pt x="18653" y="18132"/>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7081920" y="6188040"/>
            <a:ext cx="115920" cy="115920"/>
          </a:xfrm>
          <a:custGeom>
            <a:avLst/>
            <a:gdLst/>
            <a:ahLst/>
            <a:rect l="l" t="t" r="r" b="b"/>
            <a:pathLst>
              <a:path w="324" h="323">
                <a:moveTo>
                  <a:pt x="19993" y="17190"/>
                </a:moveTo>
                <a:cubicBezTo>
                  <a:pt x="19901" y="17216"/>
                  <a:pt x="19825" y="17238"/>
                  <a:pt x="19745" y="17289"/>
                </a:cubicBezTo>
                <a:cubicBezTo>
                  <a:pt x="19788" y="17354"/>
                  <a:pt x="19844" y="17407"/>
                  <a:pt x="19844" y="17487"/>
                </a:cubicBezTo>
                <a:cubicBezTo>
                  <a:pt x="19759" y="17515"/>
                  <a:pt x="19724" y="17519"/>
                  <a:pt x="19670" y="17462"/>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331040" y="6249960"/>
            <a:ext cx="411120" cy="206280"/>
          </a:xfrm>
          <a:custGeom>
            <a:avLst/>
            <a:gdLst/>
            <a:ahLst/>
            <a:rect l="l" t="t" r="r" b="b"/>
            <a:pathLst>
              <a:path w="1142" h="572">
                <a:moveTo>
                  <a:pt x="20365" y="17438"/>
                </a:moveTo>
                <a:cubicBezTo>
                  <a:pt x="20382" y="17503"/>
                  <a:pt x="20364" y="17738"/>
                  <a:pt x="20489" y="17735"/>
                </a:cubicBezTo>
                <a:cubicBezTo>
                  <a:pt x="20539" y="17719"/>
                  <a:pt x="20588" y="17702"/>
                  <a:pt x="20638" y="17686"/>
                </a:cubicBezTo>
              </a:path>
              <a:path w="1142" h="572">
                <a:moveTo>
                  <a:pt x="20687" y="17562"/>
                </a:moveTo>
                <a:cubicBezTo>
                  <a:pt x="20687" y="17645"/>
                  <a:pt x="20675" y="17786"/>
                  <a:pt x="20712" y="17835"/>
                </a:cubicBezTo>
              </a:path>
              <a:path w="1142" h="572">
                <a:moveTo>
                  <a:pt x="20910" y="17388"/>
                </a:moveTo>
                <a:cubicBezTo>
                  <a:pt x="21008" y="17413"/>
                  <a:pt x="21104" y="17413"/>
                  <a:pt x="21208" y="17413"/>
                </a:cubicBezTo>
                <a:cubicBezTo>
                  <a:pt x="21168" y="17523"/>
                  <a:pt x="21068" y="17748"/>
                  <a:pt x="21084" y="17810"/>
                </a:cubicBezTo>
              </a:path>
              <a:path w="1142" h="572">
                <a:moveTo>
                  <a:pt x="21357" y="17363"/>
                </a:moveTo>
                <a:cubicBezTo>
                  <a:pt x="21258" y="17413"/>
                  <a:pt x="21272" y="17404"/>
                  <a:pt x="21233" y="17512"/>
                </a:cubicBezTo>
                <a:cubicBezTo>
                  <a:pt x="21310" y="17655"/>
                  <a:pt x="21449" y="17711"/>
                  <a:pt x="21506" y="17859"/>
                </a:cubicBezTo>
                <a:cubicBezTo>
                  <a:pt x="21308" y="17972"/>
                  <a:pt x="21244" y="17889"/>
                  <a:pt x="21332" y="17661"/>
                </a:cubicBezTo>
                <a:cubicBezTo>
                  <a:pt x="21375" y="17550"/>
                  <a:pt x="21415" y="17358"/>
                  <a:pt x="21357" y="17462"/>
                </a:cubicBezTo>
                <a:cubicBezTo>
                  <a:pt x="21349" y="17495"/>
                  <a:pt x="21340" y="17529"/>
                  <a:pt x="21332" y="17562"/>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7912080" y="6242040"/>
            <a:ext cx="347760" cy="179280"/>
          </a:xfrm>
          <a:custGeom>
            <a:avLst/>
            <a:gdLst/>
            <a:ahLst/>
            <a:rect l="l" t="t" r="r" b="b"/>
            <a:pathLst>
              <a:path w="968" h="498">
                <a:moveTo>
                  <a:pt x="21977" y="17438"/>
                </a:moveTo>
                <a:cubicBezTo>
                  <a:pt x="22094" y="17427"/>
                  <a:pt x="22205" y="17413"/>
                  <a:pt x="22324" y="17413"/>
                </a:cubicBezTo>
                <a:cubicBezTo>
                  <a:pt x="22318" y="17538"/>
                  <a:pt x="22175" y="17802"/>
                  <a:pt x="22299" y="17785"/>
                </a:cubicBezTo>
                <a:cubicBezTo>
                  <a:pt x="22324" y="17768"/>
                  <a:pt x="22349" y="17752"/>
                  <a:pt x="22374" y="17735"/>
                </a:cubicBezTo>
              </a:path>
              <a:path w="968" h="498">
                <a:moveTo>
                  <a:pt x="22572" y="17487"/>
                </a:moveTo>
                <a:cubicBezTo>
                  <a:pt x="22530" y="17551"/>
                  <a:pt x="22514" y="17562"/>
                  <a:pt x="22523" y="17611"/>
                </a:cubicBezTo>
                <a:cubicBezTo>
                  <a:pt x="22662" y="17652"/>
                  <a:pt x="22729" y="17674"/>
                  <a:pt x="22820" y="17785"/>
                </a:cubicBezTo>
                <a:cubicBezTo>
                  <a:pt x="22668" y="17877"/>
                  <a:pt x="22699" y="17831"/>
                  <a:pt x="22547" y="17711"/>
                </a:cubicBezTo>
              </a:path>
              <a:path w="968" h="498">
                <a:moveTo>
                  <a:pt x="22746" y="17363"/>
                </a:moveTo>
                <a:cubicBezTo>
                  <a:pt x="22820" y="17351"/>
                  <a:pt x="22845" y="17338"/>
                  <a:pt x="22920" y="17338"/>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776760" y="4929120"/>
            <a:ext cx="1440" cy="1800"/>
          </a:xfrm>
          <a:custGeom>
            <a:avLst/>
            <a:gdLst/>
            <a:ahLst/>
            <a:rect l="l" t="t" r="r" b="b"/>
            <a:pathLst>
              <a:path w="1" h="1">
                <a:moveTo>
                  <a:pt x="10492" y="13692"/>
                </a:moveTo>
                <a:lnTo>
                  <a:pt x="10492" y="13692"/>
                </a:lnTo>
              </a:path>
              <a:path w="1" h="1">
                <a:moveTo>
                  <a:pt x="10492" y="13692"/>
                </a:moveTo>
                <a:lnTo>
                  <a:pt x="10492" y="13692"/>
                </a:lnTo>
              </a:path>
            </a:pathLst>
          </a:custGeom>
          <a:noFill/>
          <a:ln cap="rnd" w="3492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ive:  Students will perform all operations with decimals while managing household expenses.</a:t>
            </a:r>
            <a:endParaRPr b="0" lang="en-US" sz="2000" spc="-1" strike="noStrike">
              <a:solidFill>
                <a:srgbClr val="000000"/>
              </a:solidFill>
              <a:latin typeface="Times New Roman"/>
            </a:endParaRPr>
          </a:p>
        </p:txBody>
      </p:sp>
      <p:sp>
        <p:nvSpPr>
          <p:cNvPr id="72" name="PlaceHolder 2"/>
          <p:cNvSpPr>
            <a:spLocks noGrp="1"/>
          </p:cNvSpPr>
          <p:nvPr>
            <p:ph type="subTitle"/>
          </p:nvPr>
        </p:nvSpPr>
        <p:spPr>
          <a:xfrm>
            <a:off x="380880" y="1142640"/>
            <a:ext cx="8382240" cy="518148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s Assignment:</a:t>
            </a: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rt through your envelope deciding what mail indicates debits and which are credits.</a:t>
            </a: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all credit entries first, and then complete all debits.  Write “Completed” on the mail when you are finished with the item.</a:t>
            </a: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e your monthly income and record on the slip asking for monthly income.  Staple in your folder so it doesn’t get lo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1371600" y="20574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W 18 25-30 on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01:02:47Z</dcterms:created>
  <dc:creator>Brian McGrath</dc:creator>
  <dc:description/>
  <dc:language>en-US</dc:language>
  <cp:lastModifiedBy>deanne elizabeth mcgrath</cp:lastModifiedBy>
  <dcterms:modified xsi:type="dcterms:W3CDTF">2011-11-16T18:28:03Z</dcterms:modified>
  <cp:revision>3</cp:revision>
  <dc:subject/>
  <dc:title>Nov. 16, 2011  Warm-up:  1.) Your family checkbook balance is $528.32.  You spent $89.57 at Target on snow shovels and winterizing supplies to be ready for the winter.       What is your new balance?  2.) Grandma Ginny isn’t going to be able to make it home for Thanksgiving, but since she always makes the pies for the holidays, she sent you a check for $40 and a note asking you to pick up some pies at Baugher’s since they are almost as good as hers.      What will be your new balance? </dc:title>
</cp:coreProperties>
</file>